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35.wmf" ContentType="image/x-wmf"/>
  <Override PartName="/ppt/media/image47.wmf" ContentType="image/x-wmf"/>
  <Override PartName="/ppt/media/image4.png" ContentType="image/png"/>
  <Override PartName="/ppt/media/image36.wmf" ContentType="image/x-wmf"/>
  <Override PartName="/ppt/media/image48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37.wmf" ContentType="image/x-wmf"/>
  <Override PartName="/ppt/media/image49.wmf" ContentType="image/x-wmf"/>
  <Override PartName="/ppt/media/image6.png" ContentType="image/png"/>
  <Override PartName="/ppt/media/image29.png" ContentType="image/png"/>
  <Override PartName="/ppt/media/image34.wmf" ContentType="image/x-wmf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83AE0-D27E-4DCC-B8E3-2A4E7359D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8A1C-E360-4AC6-9724-9E4BA0C2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1CC276-6F0C-4838-9332-48B550C1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6C2BA4-77FD-4972-8010-B5FE5B3D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A92C15-7B61-4C50-A752-DE658924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F2A61C-018E-4C2A-A69C-672FEC68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504534-4EAF-49A1-A6D5-FA50F4A7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9839D-41A7-40DD-A6DA-90C42D48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891FF2-4C8B-4F7D-BAEE-6A7FD4C2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C0325E-28FB-4032-BC62-109FFBFF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C8F026-C745-49D1-A39B-4F9A6DBCC7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46BB6-1D2B-4C9E-B717-FADB7B3EC7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AFBA-247F-483C-9EBD-ED2BE8FC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2A46E-B67E-418E-AAA7-7066AAB0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31B5E-47A4-41DF-8733-576705AD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AB9F6-1041-4711-9C92-52BCAC7B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1CFC1-60E7-4462-B864-849B1726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74DA4-5DE1-4375-A0F7-E08661FF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BEB24-F2BA-4C8E-848E-15BAFB13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609DE-E3C4-4797-AFCB-287411C8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C0D05-4077-4E78-B632-DD604A40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54F99-ECDD-49F3-BFB5-D69DD3E0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B7B58-1DE4-4B7F-ABC4-4B5B1318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E507-3278-40F9-B20D-8EBB84FFF1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08C91-7EDF-4E50-8F60-5ED6DBB997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E7DEC9-FFC7-4D0A-AE25-2F1DD0141B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C5CAE0-EAF6-4C2E-B7FD-662176D9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1F4C87-5B2E-4128-B796-B7B8B48A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D96A23-3F37-42FA-A14C-F0AC7374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6F519B-051F-4D2D-91AC-9C030120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046306-889F-49C8-89EB-246B75DD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11263C-BC0B-4C7A-B393-9341A958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2CC345-FA95-4E36-B9FC-4FD5B2F5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0B9908-4879-4C33-BF06-277528FD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680FB-8ABB-4D03-8056-47279DE2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3A35A6-3E91-440D-9490-F698A7D9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0414A7-E9A7-4091-AC9A-2DC696B3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719560-0824-4DE1-9552-E096279F94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A76DE-56C1-4EAC-AEC2-60B8CC379F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5D7AFE-6FFA-4445-8E7A-E8D97BDF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3A7B76-186C-49F3-B2CB-E5DE3C8D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73642D-299F-440E-9478-43A28413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F8861-90EA-483A-8BCF-D20F486A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2CA754-E33A-440D-A71A-A5B11056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3BC53-8F89-45AC-BA00-457BE385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E04EA-F8CA-496E-AC2F-5E23712B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710837-85C9-4132-B54A-53FDDE0A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B24D4-1277-4EE3-A084-2E81CB91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01809-042B-4BB0-A66A-207160FD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77CAC-7966-4C99-9994-7EEEE5D0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54B4E-7E16-4167-B4A3-4AF31591DE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886BF-ED08-42EB-87D0-54500D8200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BA069-D4D5-43AD-8DC1-54F57319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43474-CD23-48CC-88C9-8B34644B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4B646-8A1E-4387-9D6B-8A109675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16637-3625-441A-A5F4-56712C2D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FED9E-D27E-4A62-963A-ABE89C40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25455-1009-4FF4-8654-9DAFDDC5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A4536-19FF-4CAE-B76C-4C11DA7A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52134-5623-4FE0-9BA4-72E9CAFE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04B4B-AE76-482C-9F4D-9C626E4B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AABA6-8C9F-4F29-A1FC-44932C1D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D64D5-AF60-4112-A9C8-333A8994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694A6-4A52-4E38-A8AA-C72E41877E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BC9B3-63D4-44B6-91A6-26081D5C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9A3EF-BC44-4B5B-A2EB-7166D66C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9EF5B-482F-4597-8766-975E276D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8C8CB-E340-45BC-B8F9-7A50833D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3697C-09A6-412E-9A06-0577D9C4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ED5CB-3FD2-4256-87C9-5F3DB0DE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00AEE-EDC6-44FA-95DE-7C4A23F7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1CADE-F812-4EF3-BA12-ED7498E9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04222-B9CA-42CF-96C2-EFA02AC3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D5BC7-3873-4C44-BAC6-7356C4F8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054EF-8E88-4B40-9786-20F49E3D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671E5-90B9-4D98-A9CA-D4990864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51FBE-CBF8-4EEF-8B44-33B9EDFD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D80F1-26C0-4A05-9F92-D6A0BACB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8DD05-65FB-4899-B4FA-8AA2CE42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3D038-477B-425B-BA7E-5C4E0B02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DF9B5-8C7B-4AEC-B981-9DC2238C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71CA3-4180-4EFD-9967-19C29F16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4FED6-03E4-499D-A5AD-EEE00634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88C32-8CD0-4345-A2B5-8346BAC6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AFCDB-36D8-4D11-9D1D-E41D043D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35516-2410-4584-AED7-EF135733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85C50-A481-43E0-8B97-C7CB13A5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1FEDC-5C79-40AC-A065-BA8B8D94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A6571-52AD-4757-B19F-E6CC5BD5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5BE31-E23E-4C73-9E68-094FE01C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78AFA-6EA9-4BC1-B723-DE667EA3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06719-A5AB-4DAB-A29F-22CD8F3F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1CCD1-1576-4B46-A496-A720767B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CDC08-86A5-4A51-91BF-FCDAD2C4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13608-743C-43A7-91A0-F7403B0F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67AE5-1663-4DFB-94DB-36AA0AC8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1F628-4233-453A-ACC1-51CA79E3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C2DAB-992B-4655-BC3E-F922E4FF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216D1-5E2C-4CF7-9CD8-8F61DD28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67295-63C7-4FCA-BB97-11A6A6A8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98C8D-3886-4B82-8FBA-A9282975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1EE5D-7CAB-4C37-96B6-10AD03E0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F71A2-5289-4EEE-AFB6-B27C79B3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B6547-46BF-49D3-AE8C-F9270D41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F3697-4A8A-4004-9291-4CB0F0BA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A9B25-6252-46C2-B2B3-E8773012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31561-0078-4A77-AD34-75B59D6A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5996C-745A-4865-94D5-CEADBC08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196F3-3567-4778-AD61-98F3430D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14878-1E1D-4509-A90D-BAD8C20E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296D5-A966-4304-8A93-F5768A88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354BE-B3FC-42B5-930F-F675CCA9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36579-9855-4A27-A126-2F68C750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B8770-332C-49C0-9B01-7957C618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E381F-B486-4601-8EAD-A7AE4E2E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7144C-501D-4B75-B25F-B9B503B7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F0A94-6E55-4173-9CAE-7E9D10DE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4673C-29CD-492D-8834-6D0E6DED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24E5F1-E811-403D-80B5-FDE82FEE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EF171-78F2-498B-8938-A8CA5EC3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FFCCC-CF83-4675-B241-4087125B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FD8E6-4E7A-4D6A-BB92-A938C0BC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32522-E6F9-4232-887B-FF8691A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5FC8F-4537-4E9E-B0DB-6A8359FD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DE7F6-2152-43F2-84CD-84F84FBE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9FD36-F600-409E-8CE6-20F9640B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7064C5-4BE8-4E23-A243-D96386EB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6F925-6AFB-43AB-A03C-30887979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97F7C-D77B-4D25-8972-13081ECA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F4B82-822E-4265-9BF7-BE5825A8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7791B-31D8-4745-A811-92BFC290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09B09E-560E-4FF2-BD9E-1EC6C2AE3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9CB5A-620E-4038-A59D-724334E7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404059-1145-4B3A-B03F-656A6E18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F26FE-396C-4445-B250-E415158D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8BFE1-5254-4960-896F-1E8C3654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887DCA-53AB-44A2-A9D8-3117FF26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7F695-665C-4407-8F03-86C23AB0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F09373-D0EA-4532-ACCC-E316BA36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2AA39-4C80-4FD8-AC1D-1396484D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B669F-9560-4BFF-91EF-A16CC4E0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7B646-3B4E-419F-9C8D-F1F12DA2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DAD6B1-4F7C-4C82-8587-4A7933EF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DF892E-D4C9-4EE6-9B65-947A1751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9CF47-C11B-4B6B-9575-1D7ACB72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E18E6-A4E4-472D-A934-4B1688AF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AA914-B104-4C6D-B3E9-87D676E4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F32ECB-D760-402D-8AF6-A83047DB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3EFD8D-B74B-4212-8C7B-35EF26D8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74172-55AE-4F57-8FF3-0929878A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19276F-4AB0-446A-84AF-2BA69A66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AF8E5C-1005-4923-870A-2621FAC1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F328F2-5B3E-4632-A792-11FBBAAA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44DFB-F285-486B-93F1-998F25A0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7F9C7-D6DF-44F7-A60C-A428E901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A7B92-610B-4EEF-9C44-03E929B5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6402E-A2B6-4B9E-BF5A-0DD02A52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BB2393-7DD6-4F18-9218-BDD48943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10F994-E7E0-4990-A933-0256D4166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EB085-2FC1-4FDB-A2B3-E1DF212C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5E122-B30B-470A-A08B-F0001623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1EDC50-F952-48FF-B71F-C01DA4AD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0F810-EBF8-44E6-BF66-5606FBDA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C54B3-8B15-4CCD-A0C8-F9DBC87A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F2F68-DADC-4582-9858-EF4CECA9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F77B4-FED5-4241-9DFB-BF8339C2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94AD8-2FB3-42C9-AEF2-8FD2D923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F2A7D-A28C-4357-8C8A-267AAEA77B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2F700A-9950-4CA2-8EFB-614911E3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853BD-4447-4FD7-AFF8-FB55073C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B8A940-3523-41F4-809E-E6553D51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5EE89-7F84-4F49-B69F-61862688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9B54F-82D8-4FEF-97F5-2EB66142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1AF5E3-DA13-420A-B041-AA34100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849448-DBE6-45F5-AED7-BA380784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545C39-5D76-413C-82ED-5751DE81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798F7-0A0A-48ED-8C3B-43909ED0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73E0B3-1DF2-44F8-887C-589FB0E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A1AC06-2881-4ED0-8473-9109ECA1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1AB0F9-E3D5-4C1C-8988-D7813D45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C5EE0-260B-4301-AE83-0B3411EB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94CF30-2F10-4BF7-B9B8-6480A5B9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CFD1A-F2B7-495E-9947-46A4336D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77558-B7DA-4798-8599-4A235A76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AA9621-4853-489D-A4E3-79270925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46B1A5-0927-4DBB-820E-E5D6B7BD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CD7ACF-BEC3-408C-AF53-8FFE043D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35DD89-7AA1-49E4-A306-A3AE3DCC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2DC59-23F5-445A-A6AB-17E1DBBB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F93F0B-F4DF-457D-878D-94692BBD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6BE4D-8E41-4BFF-BEE9-E024C9D1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DAD66F-5115-4126-B42B-0CE92C70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F3CD12-15CA-4E48-AA4F-018DDF54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24DADB-D101-4ECE-B092-A223355B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04B63-C498-4400-8939-C5759A34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02FAC1-66AC-4EF9-B2DE-231AD69D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E0720D-D45C-4FF6-8626-A1B4432E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6EAFF-B91E-4720-ADE4-092A899B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509549-5D53-4A90-9967-9A2473C7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2CAD63-F578-42D1-9A23-01FCCE15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FF6631-BC21-499F-A888-EFA08E14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082D52-B894-4674-9DE9-6E78332B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EC447-F3A5-4C55-9A32-95973EBA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B4E0B-881C-49E4-9506-2D85E3B1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79227B-8222-45D3-A850-24CAE103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1FD00F-3110-4E2C-B8EE-45E16DE6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10AF74-028F-45D4-A91A-9783097B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215D6A-21EE-49E4-901B-4FF00D42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B923B-9472-4BF5-87B8-480862C6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4DED8F-D6FA-46B9-8662-21886C2F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AD1A5D-18A2-4388-9E64-9978B1D3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A9BF-616D-47F6-A2E2-61EC741A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250FD5-85DA-46CB-834A-BB3A0285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581728-A957-45C1-B3C2-CAA9F50D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58A529-BAF4-41DF-B721-22E7D864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FA2F7E-C54B-435F-90D5-48422216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C5214-4313-4F02-AA6C-16710FA2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2179B0-B84E-466E-A341-B4F4AA50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E5D1A-643B-4F0E-82EE-01E0776B3A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2D3B-217A-47AA-B27D-A4374F55DE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8129-9A43-4782-BEE7-553BF429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639D9-5776-46ED-AF28-69386072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BA7F1-9610-4242-A064-5D0A1488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3019-78D6-4D62-A8BD-429DA49D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B680-23ED-4CE2-9289-1EA6CFEE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A71B3-6E13-49CE-8AE9-D14AB03C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6E2A3-5352-4265-BE35-7CFF29E8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534C-1A87-4D66-81C3-F0DF1553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74B4-39DB-41F2-A99A-37D5357E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3D0F8-66B9-4343-8C75-57BD05F3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F1904-9ACF-4085-8691-B20CC55F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D718-C70B-4A46-B2A2-6B995F5C61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39E73-4291-4B08-8366-AB6A0D579C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E944-3345-4B8B-8406-B3C8C347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BDBD53-77F4-4727-9101-AED8AF96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21D6E6-6DCD-43C3-9192-10981037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2C09B-9F15-4149-ADC9-82AB3E76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7AC15-3529-4929-864C-B47EB4E2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C007D-C3C2-4A24-95F9-01795F9E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FA4AA-6307-400E-8956-C8111373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235ACE-665C-4EBE-9BC8-32E6906A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3A3E5-0F87-43B9-BCC9-312711B7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5764EC-B27A-42F6-BC36-6CB0D04A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327E71-A52B-484C-BF9F-4D31FAA4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18DB-DAE5-41A2-9EC7-A67CD792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CCCA1-1127-4DE6-9CE1-2F6C5EFEC0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578489-9E06-47E4-ABDF-B1453C1D57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7B2AED-BF22-45FE-A48C-D6DC00B6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CE8744-9ABF-4B3E-9D4F-2284ED13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214CD8-1CA9-4EF1-B9A4-7EC0A651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ECC3C3-1D3A-4CE0-A571-BDC3D63A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E07231-7C0C-49D0-88C7-D1D2AF49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C153D0-01B9-45AC-BBF0-F9F4CEFD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FBCB50-EA94-4F1A-93E6-C887567B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9E77FE-9AB3-4972-80F6-39A3BE22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7469-EDFD-476D-9E49-338A36DF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386708-CC21-4601-BC89-7905FA4C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338694-D41D-492A-9390-B51A5224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48365D-06DA-4E3B-9F8E-BE7BB58221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1F04-7B73-41E7-92A8-DC42B1BF47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11792-0C75-48EA-9B52-7E3B537A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98D46-A6DA-49BB-A71A-1C05EF09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27CB2-7F9F-4B68-B49B-1296353A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A1C70-1612-4A56-BBBA-A2E13AA8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FB689-88CE-4D81-AB92-791F5D70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D0E31-58AB-4D79-98FF-032B8F93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019AC-F08F-4CE8-A7E2-A7548AD7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3671E-9A07-4047-89B3-B845E3C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ED59E-049C-4D3C-A673-FD2007C8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4014-295D-43C6-B7E1-9B251792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AED90-0AF9-473C-911F-B32703A3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2A7D2-6803-4F96-94B0-1EF5B4CB8A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264870-69C5-44B8-8B1C-4E8C118304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0B8947-AEA4-4E84-8A40-DEFE4194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831F6-8970-49C5-8E7E-3D60F883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8F661-D762-4E3F-AE90-1FA8885B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78F7B-A9F6-4F01-8AF9-485DA67F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8CB4-61D7-4ACC-AFE2-93A7F1BA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3EB81-D715-4FA7-A5A2-00E25EFC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535CAA-A80C-4532-852D-09A45486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349B46-643A-466D-9851-C8E734B5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E6347-1ACB-41FF-BCB0-416F8A6D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10BBD-C83B-46EE-9267-8A657B9A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B0A5F-9434-4286-B1A3-E7E8DED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148B4-CAF5-4FE1-89D7-821A8C3E3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5ED1BA-C406-47A9-82C0-E6ACC38428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9F5291-B80F-48A2-9B10-91E54990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962BB9-AA26-4F05-83F3-96BBB183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2123-C529-45BD-8E9E-5FEBB4C7ACA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FD1D-1724-49FF-9AC4-CB9EECA04F9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DACB-68B5-4B4C-94FA-82024570285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8EEA-B44F-460C-94D9-CC047F8252D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D21C-BE6D-4330-98AA-EFCF16418AA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D03D-2C1F-4996-A019-CD6F32D0DB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961A-C85C-4B07-ADB5-17855E9FBC9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6295-F8CD-4A59-AA66-8276F37C7A9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BFEA-EA3C-4450-AF88-1B03F6AA4C6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6C99-C2E7-4294-8743-5DAC5872C8A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0D1E-306B-4ED3-AD00-81D11B5A19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A129-F60A-4A12-97F5-531E4525F9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6630-7A30-4F29-9128-8CFD80D6044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799D-A63C-49EB-87BE-35150F1656A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5DD2-0543-4315-94FF-80A72F9F511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A724-1AEA-4E44-93DD-8FABF353F10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A989-2047-4115-AE50-092B41C99BE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D268-38A2-4E9C-BD47-96CA39040CC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77DF-B600-42F5-8811-6EE9CD05EF0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36D7-A88E-4164-95B7-C6B4448E7CD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D730-9A11-4AC5-BE3A-5DC22B95FA4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8BEF-E127-4539-997A-046925CD381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5D75-7397-4197-9C52-E155E64EBE05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F315-A578-4613-B7BC-5E914EB70B1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44.wmf"/><Relationship Id="rId9" Type="http://schemas.openxmlformats.org/officeDocument/2006/relationships/image" Target="../media/image45.wmf"/><Relationship Id="rId10" Type="http://schemas.openxmlformats.org/officeDocument/2006/relationships/image" Target="../media/image44.wmf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48.wmf"/><Relationship Id="rId14" Type="http://schemas.openxmlformats.org/officeDocument/2006/relationships/image" Target="../media/image49.wmf"/><Relationship Id="rId15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19.jpe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2849400" y="26748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2317680" y="2647800"/>
            <a:ext cx="433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几分之一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数的初步认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6" name="组合 2"/>
          <p:cNvGrpSpPr/>
          <p:nvPr/>
        </p:nvGrpSpPr>
        <p:grpSpPr>
          <a:xfrm>
            <a:off x="-11160" y="90360"/>
            <a:ext cx="3245040" cy="525600"/>
            <a:chOff x="-11160" y="90360"/>
            <a:chExt cx="3245040" cy="525600"/>
          </a:xfrm>
        </p:grpSpPr>
        <p:pic>
          <p:nvPicPr>
            <p:cNvPr id="136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9320" y="90360"/>
              <a:ext cx="3094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8" name="组合 4"/>
            <p:cNvGrpSpPr/>
            <p:nvPr/>
          </p:nvGrpSpPr>
          <p:grpSpPr>
            <a:xfrm>
              <a:off x="-11160" y="186120"/>
              <a:ext cx="430200" cy="271800"/>
              <a:chOff x="-11160" y="186120"/>
              <a:chExt cx="430200" cy="271800"/>
            </a:xfrm>
          </p:grpSpPr>
          <p:sp>
            <p:nvSpPr>
              <p:cNvPr id="1369" name="椭圆 1"/>
              <p:cNvSpPr/>
              <p:nvPr/>
            </p:nvSpPr>
            <p:spPr>
              <a:xfrm rot="16200000">
                <a:off x="231840" y="348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0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07000" y="31248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椭圆 29"/>
              <p:cNvSpPr/>
              <p:nvPr/>
            </p:nvSpPr>
            <p:spPr>
              <a:xfrm rot="16200000">
                <a:off x="231840" y="22284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7000" y="200520"/>
                <a:ext cx="21204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1160" y="32868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1160" y="30060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11160" y="21384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11160" y="186120"/>
                <a:ext cx="35676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77" name="文本框 107"/>
          <p:cNvSpPr/>
          <p:nvPr/>
        </p:nvSpPr>
        <p:spPr>
          <a:xfrm>
            <a:off x="279360" y="976320"/>
            <a:ext cx="83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写出阴影部分占全部的几分之一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文本框 2"/>
          <p:cNvSpPr/>
          <p:nvPr/>
        </p:nvSpPr>
        <p:spPr>
          <a:xfrm>
            <a:off x="425520" y="170496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文本框 3"/>
          <p:cNvSpPr/>
          <p:nvPr/>
        </p:nvSpPr>
        <p:spPr>
          <a:xfrm>
            <a:off x="4678200" y="1779480"/>
            <a:ext cx="10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文本框 4"/>
          <p:cNvSpPr/>
          <p:nvPr/>
        </p:nvSpPr>
        <p:spPr>
          <a:xfrm>
            <a:off x="650880" y="439092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文本框 6"/>
          <p:cNvSpPr/>
          <p:nvPr/>
        </p:nvSpPr>
        <p:spPr>
          <a:xfrm>
            <a:off x="4678200" y="4530600"/>
            <a:ext cx="10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2" name="组合 14"/>
          <p:cNvGrpSpPr/>
          <p:nvPr/>
        </p:nvGrpSpPr>
        <p:grpSpPr>
          <a:xfrm>
            <a:off x="1446120" y="2079720"/>
            <a:ext cx="1371600" cy="685440"/>
            <a:chOff x="1446120" y="2079720"/>
            <a:chExt cx="1371600" cy="685440"/>
          </a:xfrm>
        </p:grpSpPr>
        <p:sp>
          <p:nvSpPr>
            <p:cNvPr id="1383" name="Rectangle 13"/>
            <p:cNvSpPr/>
            <p:nvPr/>
          </p:nvSpPr>
          <p:spPr>
            <a:xfrm>
              <a:off x="1446120" y="207972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Rectangle 13"/>
            <p:cNvSpPr/>
            <p:nvPr/>
          </p:nvSpPr>
          <p:spPr>
            <a:xfrm>
              <a:off x="1788840" y="207972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131920" y="207972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Rectangle 13"/>
            <p:cNvSpPr/>
            <p:nvPr/>
          </p:nvSpPr>
          <p:spPr>
            <a:xfrm>
              <a:off x="2475000" y="207972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Rectangle 13"/>
            <p:cNvSpPr/>
            <p:nvPr/>
          </p:nvSpPr>
          <p:spPr>
            <a:xfrm>
              <a:off x="1446120" y="242244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Rectangle 13"/>
            <p:cNvSpPr/>
            <p:nvPr/>
          </p:nvSpPr>
          <p:spPr>
            <a:xfrm>
              <a:off x="1788840" y="242244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Rectangle 13"/>
            <p:cNvSpPr/>
            <p:nvPr/>
          </p:nvSpPr>
          <p:spPr>
            <a:xfrm>
              <a:off x="2131920" y="2422440"/>
              <a:ext cx="34272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Rectangle 18"/>
            <p:cNvSpPr/>
            <p:nvPr/>
          </p:nvSpPr>
          <p:spPr>
            <a:xfrm>
              <a:off x="2475000" y="2422440"/>
              <a:ext cx="342720" cy="342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1" name="Rectangle 6"/>
          <p:cNvSpPr/>
          <p:nvPr/>
        </p:nvSpPr>
        <p:spPr>
          <a:xfrm>
            <a:off x="6018120" y="2079720"/>
            <a:ext cx="34308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6361200" y="2079720"/>
            <a:ext cx="3427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Rectangle 11"/>
          <p:cNvSpPr/>
          <p:nvPr/>
        </p:nvSpPr>
        <p:spPr>
          <a:xfrm>
            <a:off x="6018120" y="2422440"/>
            <a:ext cx="3430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Rectangle 12"/>
          <p:cNvSpPr/>
          <p:nvPr/>
        </p:nvSpPr>
        <p:spPr>
          <a:xfrm>
            <a:off x="6361200" y="2422440"/>
            <a:ext cx="342720" cy="343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AutoShape 3"/>
          <p:cNvSpPr/>
          <p:nvPr/>
        </p:nvSpPr>
        <p:spPr>
          <a:xfrm rot="7200000">
            <a:off x="1727280" y="4630680"/>
            <a:ext cx="457200" cy="3967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AutoShape 10"/>
          <p:cNvSpPr/>
          <p:nvPr/>
        </p:nvSpPr>
        <p:spPr>
          <a:xfrm>
            <a:off x="1670040" y="4530600"/>
            <a:ext cx="914400" cy="790560"/>
          </a:xfrm>
          <a:prstGeom prst="hexagon">
            <a:avLst>
              <a:gd name="adj" fmla="val 2891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AutoShape 3"/>
          <p:cNvSpPr/>
          <p:nvPr/>
        </p:nvSpPr>
        <p:spPr>
          <a:xfrm rot="10800000">
            <a:off x="1898640" y="454356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AutoShape 3"/>
          <p:cNvSpPr/>
          <p:nvPr/>
        </p:nvSpPr>
        <p:spPr>
          <a:xfrm rot="14400000">
            <a:off x="2072160" y="464544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AutoShape 3"/>
          <p:cNvSpPr/>
          <p:nvPr/>
        </p:nvSpPr>
        <p:spPr>
          <a:xfrm rot="10800000">
            <a:off x="2127240" y="492588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AutoShape 3"/>
          <p:cNvSpPr/>
          <p:nvPr/>
        </p:nvSpPr>
        <p:spPr>
          <a:xfrm rot="10800000">
            <a:off x="1670040" y="493884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AutoShape 3"/>
          <p:cNvSpPr/>
          <p:nvPr/>
        </p:nvSpPr>
        <p:spPr>
          <a:xfrm>
            <a:off x="1898640" y="492588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2" name="Group 19"/>
          <p:cNvGrpSpPr/>
          <p:nvPr/>
        </p:nvGrpSpPr>
        <p:grpSpPr>
          <a:xfrm>
            <a:off x="6132600" y="4731480"/>
            <a:ext cx="803880" cy="811440"/>
            <a:chOff x="6132600" y="4731480"/>
            <a:chExt cx="803880" cy="811440"/>
          </a:xfrm>
        </p:grpSpPr>
        <p:sp>
          <p:nvSpPr>
            <p:cNvPr id="1403" name="AutoShape 20"/>
            <p:cNvSpPr/>
            <p:nvPr/>
          </p:nvSpPr>
          <p:spPr>
            <a:xfrm>
              <a:off x="6132600" y="5195520"/>
              <a:ext cx="799920" cy="231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AutoShape 21"/>
            <p:cNvSpPr/>
            <p:nvPr/>
          </p:nvSpPr>
          <p:spPr>
            <a:xfrm rot="7200000">
              <a:off x="6032160" y="5020560"/>
              <a:ext cx="801360" cy="23112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AutoShape 22"/>
            <p:cNvSpPr/>
            <p:nvPr/>
          </p:nvSpPr>
          <p:spPr>
            <a:xfrm rot="14400000">
              <a:off x="6235200" y="5022360"/>
              <a:ext cx="801360" cy="231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6" name="组合 32"/>
          <p:cNvGrpSpPr/>
          <p:nvPr/>
        </p:nvGrpSpPr>
        <p:grpSpPr>
          <a:xfrm>
            <a:off x="1508040" y="2921040"/>
            <a:ext cx="623880" cy="820440"/>
            <a:chOff x="1508040" y="2921040"/>
            <a:chExt cx="623880" cy="820440"/>
          </a:xfrm>
        </p:grpSpPr>
        <p:sp>
          <p:nvSpPr>
            <p:cNvPr id="1407" name="Text Box 54"/>
            <p:cNvSpPr/>
            <p:nvPr/>
          </p:nvSpPr>
          <p:spPr>
            <a:xfrm>
              <a:off x="1508040" y="29210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Text Box 55"/>
            <p:cNvSpPr/>
            <p:nvPr/>
          </p:nvSpPr>
          <p:spPr>
            <a:xfrm>
              <a:off x="1508040" y="33732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09" name=""/>
            <p:cNvGrpSpPr/>
            <p:nvPr/>
          </p:nvGrpSpPr>
          <p:grpSpPr>
            <a:xfrm>
              <a:off x="1680840" y="3387960"/>
              <a:ext cx="276840" cy="360"/>
              <a:chOff x="1680840" y="3387960"/>
              <a:chExt cx="276840" cy="360"/>
            </a:xfrm>
          </p:grpSpPr>
          <p:sp>
            <p:nvSpPr>
              <p:cNvPr id="1410" name="Line 56"/>
              <p:cNvSpPr/>
              <p:nvPr/>
            </p:nvSpPr>
            <p:spPr>
              <a:xfrm>
                <a:off x="1680840" y="338796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"/>
              <p:cNvSpPr txBox="1"/>
              <p:nvPr/>
            </p:nvSpPr>
            <p:spPr>
              <a:xfrm>
                <a:off x="1680840" y="338796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12" name="组合 32"/>
          <p:cNvGrpSpPr/>
          <p:nvPr/>
        </p:nvGrpSpPr>
        <p:grpSpPr>
          <a:xfrm>
            <a:off x="6132600" y="3019320"/>
            <a:ext cx="623880" cy="821520"/>
            <a:chOff x="6132600" y="3019320"/>
            <a:chExt cx="623880" cy="821520"/>
          </a:xfrm>
        </p:grpSpPr>
        <p:sp>
          <p:nvSpPr>
            <p:cNvPr id="1413" name="Text Box 54"/>
            <p:cNvSpPr/>
            <p:nvPr/>
          </p:nvSpPr>
          <p:spPr>
            <a:xfrm>
              <a:off x="6132600" y="3019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Text Box 55"/>
            <p:cNvSpPr/>
            <p:nvPr/>
          </p:nvSpPr>
          <p:spPr>
            <a:xfrm>
              <a:off x="6132600" y="34725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15" name=""/>
            <p:cNvGrpSpPr/>
            <p:nvPr/>
          </p:nvGrpSpPr>
          <p:grpSpPr>
            <a:xfrm>
              <a:off x="6305400" y="3486960"/>
              <a:ext cx="276840" cy="360"/>
              <a:chOff x="6305400" y="3486960"/>
              <a:chExt cx="276840" cy="360"/>
            </a:xfrm>
          </p:grpSpPr>
          <p:sp>
            <p:nvSpPr>
              <p:cNvPr id="1416" name="Line 56"/>
              <p:cNvSpPr/>
              <p:nvPr/>
            </p:nvSpPr>
            <p:spPr>
              <a:xfrm>
                <a:off x="6305400" y="348696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"/>
              <p:cNvSpPr txBox="1"/>
              <p:nvPr/>
            </p:nvSpPr>
            <p:spPr>
              <a:xfrm>
                <a:off x="6305400" y="348696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18" name="组合 32"/>
          <p:cNvGrpSpPr/>
          <p:nvPr/>
        </p:nvGrpSpPr>
        <p:grpSpPr>
          <a:xfrm>
            <a:off x="1681200" y="5425920"/>
            <a:ext cx="623880" cy="821520"/>
            <a:chOff x="1681200" y="5425920"/>
            <a:chExt cx="623880" cy="821520"/>
          </a:xfrm>
        </p:grpSpPr>
        <p:sp>
          <p:nvSpPr>
            <p:cNvPr id="1419" name="Text Box 54"/>
            <p:cNvSpPr/>
            <p:nvPr/>
          </p:nvSpPr>
          <p:spPr>
            <a:xfrm>
              <a:off x="1681200" y="54259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Text Box 55"/>
            <p:cNvSpPr/>
            <p:nvPr/>
          </p:nvSpPr>
          <p:spPr>
            <a:xfrm>
              <a:off x="1681200" y="58791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1854000" y="5893560"/>
              <a:ext cx="276840" cy="360"/>
              <a:chOff x="1854000" y="5893560"/>
              <a:chExt cx="276840" cy="360"/>
            </a:xfrm>
          </p:grpSpPr>
          <p:sp>
            <p:nvSpPr>
              <p:cNvPr id="1422" name="Line 56"/>
              <p:cNvSpPr/>
              <p:nvPr/>
            </p:nvSpPr>
            <p:spPr>
              <a:xfrm>
                <a:off x="1854000" y="589356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"/>
              <p:cNvSpPr txBox="1"/>
              <p:nvPr/>
            </p:nvSpPr>
            <p:spPr>
              <a:xfrm>
                <a:off x="1854000" y="589356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24" name="组合 32"/>
          <p:cNvGrpSpPr/>
          <p:nvPr/>
        </p:nvGrpSpPr>
        <p:grpSpPr>
          <a:xfrm>
            <a:off x="6305400" y="5425920"/>
            <a:ext cx="623880" cy="821520"/>
            <a:chOff x="6305400" y="5425920"/>
            <a:chExt cx="623880" cy="821520"/>
          </a:xfrm>
        </p:grpSpPr>
        <p:sp>
          <p:nvSpPr>
            <p:cNvPr id="1425" name="Text Box 54"/>
            <p:cNvSpPr/>
            <p:nvPr/>
          </p:nvSpPr>
          <p:spPr>
            <a:xfrm>
              <a:off x="6305400" y="54259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Text Box 55"/>
            <p:cNvSpPr/>
            <p:nvPr/>
          </p:nvSpPr>
          <p:spPr>
            <a:xfrm>
              <a:off x="6305400" y="58791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6478200" y="5893560"/>
              <a:ext cx="276840" cy="360"/>
              <a:chOff x="6478200" y="5893560"/>
              <a:chExt cx="276840" cy="360"/>
            </a:xfrm>
          </p:grpSpPr>
          <p:sp>
            <p:nvSpPr>
              <p:cNvPr id="1428" name="Line 56"/>
              <p:cNvSpPr/>
              <p:nvPr/>
            </p:nvSpPr>
            <p:spPr>
              <a:xfrm>
                <a:off x="6478200" y="589356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"/>
              <p:cNvSpPr txBox="1"/>
              <p:nvPr/>
            </p:nvSpPr>
            <p:spPr>
              <a:xfrm>
                <a:off x="6478200" y="589356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43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433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34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5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3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1" name="文本框 107"/>
          <p:cNvSpPr/>
          <p:nvPr/>
        </p:nvSpPr>
        <p:spPr>
          <a:xfrm>
            <a:off x="441360" y="9334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选择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文本框 2"/>
          <p:cNvSpPr/>
          <p:nvPr/>
        </p:nvSpPr>
        <p:spPr>
          <a:xfrm>
            <a:off x="822240" y="1581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（    ）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3" name="对象 -2147482535" descr=""/>
          <p:cNvPicPr/>
          <p:nvPr/>
        </p:nvPicPr>
        <p:blipFill>
          <a:blip r:embed="rId8"/>
          <a:stretch/>
        </p:blipFill>
        <p:spPr>
          <a:xfrm>
            <a:off x="4065480" y="1428840"/>
            <a:ext cx="295560" cy="761760"/>
          </a:xfrm>
          <a:prstGeom prst="rect">
            <a:avLst/>
          </a:prstGeom>
          <a:ln w="0">
            <a:noFill/>
          </a:ln>
        </p:spPr>
      </p:pic>
      <p:sp>
        <p:nvSpPr>
          <p:cNvPr id="1444" name="文本框 3"/>
          <p:cNvSpPr/>
          <p:nvPr/>
        </p:nvSpPr>
        <p:spPr>
          <a:xfrm>
            <a:off x="4405320" y="15811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组成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文本框 4"/>
          <p:cNvSpPr/>
          <p:nvPr/>
        </p:nvSpPr>
        <p:spPr>
          <a:xfrm>
            <a:off x="1731960" y="237960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 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文本框 6"/>
          <p:cNvSpPr/>
          <p:nvPr/>
        </p:nvSpPr>
        <p:spPr>
          <a:xfrm>
            <a:off x="3792600" y="2379600"/>
            <a:ext cx="10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. 2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文本框 8"/>
          <p:cNvSpPr/>
          <p:nvPr/>
        </p:nvSpPr>
        <p:spPr>
          <a:xfrm>
            <a:off x="6384960" y="2379600"/>
            <a:ext cx="9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.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文本框 9"/>
          <p:cNvSpPr/>
          <p:nvPr/>
        </p:nvSpPr>
        <p:spPr>
          <a:xfrm>
            <a:off x="795240" y="314640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下列分数最大的是（    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文本框 10"/>
          <p:cNvSpPr/>
          <p:nvPr/>
        </p:nvSpPr>
        <p:spPr>
          <a:xfrm>
            <a:off x="1690560" y="408636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文本框 11"/>
          <p:cNvSpPr/>
          <p:nvPr/>
        </p:nvSpPr>
        <p:spPr>
          <a:xfrm>
            <a:off x="4065480" y="408636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文本框 12"/>
          <p:cNvSpPr/>
          <p:nvPr/>
        </p:nvSpPr>
        <p:spPr>
          <a:xfrm>
            <a:off x="6518160" y="408636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2" name="Picture 9" descr=""/>
          <p:cNvPicPr/>
          <p:nvPr/>
        </p:nvPicPr>
        <p:blipFill>
          <a:blip r:embed="rId9"/>
          <a:stretch/>
        </p:blipFill>
        <p:spPr>
          <a:xfrm>
            <a:off x="2151000" y="3970440"/>
            <a:ext cx="379440" cy="69048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10" descr=""/>
          <p:cNvPicPr/>
          <p:nvPr/>
        </p:nvPicPr>
        <p:blipFill>
          <a:blip r:embed="rId10"/>
          <a:stretch/>
        </p:blipFill>
        <p:spPr>
          <a:xfrm>
            <a:off x="4637160" y="3819600"/>
            <a:ext cx="325440" cy="84132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11" descr=""/>
          <p:cNvPicPr/>
          <p:nvPr/>
        </p:nvPicPr>
        <p:blipFill>
          <a:blip r:embed="rId11"/>
          <a:stretch/>
        </p:blipFill>
        <p:spPr>
          <a:xfrm>
            <a:off x="7021440" y="3946680"/>
            <a:ext cx="285840" cy="739800"/>
          </a:xfrm>
          <a:prstGeom prst="rect">
            <a:avLst/>
          </a:prstGeom>
          <a:ln w="0">
            <a:noFill/>
          </a:ln>
        </p:spPr>
      </p:pic>
      <p:sp>
        <p:nvSpPr>
          <p:cNvPr id="1455" name="文本框 16"/>
          <p:cNvSpPr/>
          <p:nvPr/>
        </p:nvSpPr>
        <p:spPr>
          <a:xfrm>
            <a:off x="795240" y="490680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下列分数最小的是（    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文本框 17"/>
          <p:cNvSpPr/>
          <p:nvPr/>
        </p:nvSpPr>
        <p:spPr>
          <a:xfrm>
            <a:off x="1874880" y="5649840"/>
            <a:ext cx="6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文本框 18"/>
          <p:cNvSpPr/>
          <p:nvPr/>
        </p:nvSpPr>
        <p:spPr>
          <a:xfrm>
            <a:off x="4065480" y="553068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文本框 19"/>
          <p:cNvSpPr/>
          <p:nvPr/>
        </p:nvSpPr>
        <p:spPr>
          <a:xfrm>
            <a:off x="6518160" y="553068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9" name="Picture 12" descr=""/>
          <p:cNvPicPr/>
          <p:nvPr/>
        </p:nvPicPr>
        <p:blipFill>
          <a:blip r:embed="rId12"/>
          <a:stretch/>
        </p:blipFill>
        <p:spPr>
          <a:xfrm>
            <a:off x="2392200" y="5454720"/>
            <a:ext cx="230400" cy="65232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13" descr=""/>
          <p:cNvPicPr/>
          <p:nvPr/>
        </p:nvPicPr>
        <p:blipFill>
          <a:blip r:embed="rId13"/>
          <a:stretch/>
        </p:blipFill>
        <p:spPr>
          <a:xfrm>
            <a:off x="4548240" y="5408640"/>
            <a:ext cx="287280" cy="74448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14" descr=""/>
          <p:cNvPicPr/>
          <p:nvPr/>
        </p:nvPicPr>
        <p:blipFill>
          <a:blip r:embed="rId14"/>
          <a:stretch/>
        </p:blipFill>
        <p:spPr>
          <a:xfrm>
            <a:off x="6931080" y="5454720"/>
            <a:ext cx="293760" cy="698400"/>
          </a:xfrm>
          <a:prstGeom prst="rect">
            <a:avLst/>
          </a:prstGeom>
          <a:ln w="0">
            <a:noFill/>
          </a:ln>
        </p:spPr>
      </p:pic>
      <p:sp>
        <p:nvSpPr>
          <p:cNvPr id="1462" name="文本框 2"/>
          <p:cNvSpPr/>
          <p:nvPr/>
        </p:nvSpPr>
        <p:spPr>
          <a:xfrm>
            <a:off x="2916360" y="1379520"/>
            <a:ext cx="765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文本框 3"/>
          <p:cNvSpPr/>
          <p:nvPr/>
        </p:nvSpPr>
        <p:spPr>
          <a:xfrm>
            <a:off x="4505400" y="2967120"/>
            <a:ext cx="765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文本框 4"/>
          <p:cNvSpPr/>
          <p:nvPr/>
        </p:nvSpPr>
        <p:spPr>
          <a:xfrm>
            <a:off x="4505400" y="4710240"/>
            <a:ext cx="765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1"/>
          <p:cNvGrpSpPr/>
          <p:nvPr/>
        </p:nvGrpSpPr>
        <p:grpSpPr>
          <a:xfrm>
            <a:off x="642960" y="1627200"/>
            <a:ext cx="7858080" cy="3587760"/>
            <a:chOff x="642960" y="1627200"/>
            <a:chExt cx="7858080" cy="3587760"/>
          </a:xfrm>
        </p:grpSpPr>
        <p:pic>
          <p:nvPicPr>
            <p:cNvPr id="999" name="Picture 7" descr="D:\我的文档-桌面-收藏夹\桌面\野外聚餐2.png"/>
            <p:cNvPicPr/>
            <p:nvPr/>
          </p:nvPicPr>
          <p:blipFill>
            <a:blip r:embed="rId1"/>
            <a:stretch/>
          </p:blipFill>
          <p:spPr>
            <a:xfrm>
              <a:off x="642960" y="1627200"/>
              <a:ext cx="4444920" cy="358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0" name="Picture 6" descr="D:\我的文档-桌面-收藏夹\桌面\野外聚餐1 拷贝.png"/>
            <p:cNvPicPr/>
            <p:nvPr/>
          </p:nvPicPr>
          <p:blipFill>
            <a:blip r:embed="rId2"/>
            <a:stretch/>
          </p:blipFill>
          <p:spPr>
            <a:xfrm>
              <a:off x="4429080" y="1859760"/>
              <a:ext cx="4071960" cy="31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1" name="组合 2"/>
          <p:cNvGrpSpPr/>
          <p:nvPr/>
        </p:nvGrpSpPr>
        <p:grpSpPr>
          <a:xfrm>
            <a:off x="0" y="101520"/>
            <a:ext cx="2954160" cy="525600"/>
            <a:chOff x="0" y="101520"/>
            <a:chExt cx="2954160" cy="525600"/>
          </a:xfrm>
        </p:grpSpPr>
        <p:pic>
          <p:nvPicPr>
            <p:cNvPr id="1002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34640" y="101520"/>
              <a:ext cx="28195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组合 4"/>
            <p:cNvGrpSpPr/>
            <p:nvPr/>
          </p:nvGrpSpPr>
          <p:grpSpPr>
            <a:xfrm>
              <a:off x="0" y="197280"/>
              <a:ext cx="390600" cy="271800"/>
              <a:chOff x="0" y="197280"/>
              <a:chExt cx="390600" cy="271800"/>
            </a:xfrm>
          </p:grpSpPr>
          <p:sp>
            <p:nvSpPr>
              <p:cNvPr id="1004" name="椭圆 1"/>
              <p:cNvSpPr/>
              <p:nvPr/>
            </p:nvSpPr>
            <p:spPr>
              <a:xfrm rot="16200000">
                <a:off x="234720" y="362520"/>
                <a:ext cx="96840" cy="11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5" name="椭圆 7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400" y="333720"/>
                <a:ext cx="205200" cy="12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6" name="椭圆 29"/>
              <p:cNvSpPr/>
              <p:nvPr/>
            </p:nvSpPr>
            <p:spPr>
              <a:xfrm rot="16200000">
                <a:off x="234720" y="238680"/>
                <a:ext cx="96840" cy="11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07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185400" y="212760"/>
                <a:ext cx="205200" cy="12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51360"/>
                <a:ext cx="318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20760"/>
                <a:ext cx="318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7520"/>
                <a:ext cx="31860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7280"/>
                <a:ext cx="318600" cy="107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4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15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1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1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3" name="AutoShape 27"/>
          <p:cNvSpPr/>
          <p:nvPr/>
        </p:nvSpPr>
        <p:spPr>
          <a:xfrm flipH="1">
            <a:off x="2714760" y="749160"/>
            <a:ext cx="1644480" cy="533520"/>
          </a:xfrm>
          <a:prstGeom prst="wedgeRoundRectCallout">
            <a:avLst>
              <a:gd name="adj1" fmla="val -300"/>
              <a:gd name="adj2" fmla="val 8218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宋体"/>
                <a:ea typeface="宋体"/>
              </a:rPr>
              <a:t>这块月饼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宋体"/>
                <a:ea typeface="宋体"/>
              </a:rPr>
              <a:t>们一人一半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4" name="Picture 43" descr="22"/>
          <p:cNvPicPr/>
          <p:nvPr/>
        </p:nvPicPr>
        <p:blipFill>
          <a:blip r:embed="rId8"/>
          <a:stretch/>
        </p:blipFill>
        <p:spPr>
          <a:xfrm>
            <a:off x="1643040" y="3143160"/>
            <a:ext cx="1017720" cy="847800"/>
          </a:xfrm>
          <a:prstGeom prst="rect">
            <a:avLst/>
          </a:prstGeom>
          <a:ln w="0">
            <a:noFill/>
          </a:ln>
        </p:spPr>
      </p:pic>
      <p:grpSp>
        <p:nvGrpSpPr>
          <p:cNvPr id="1025" name="组合 2"/>
          <p:cNvGrpSpPr/>
          <p:nvPr/>
        </p:nvGrpSpPr>
        <p:grpSpPr>
          <a:xfrm>
            <a:off x="733320" y="1405080"/>
            <a:ext cx="2766960" cy="1662840"/>
            <a:chOff x="733320" y="1405080"/>
            <a:chExt cx="2766960" cy="1662840"/>
          </a:xfrm>
        </p:grpSpPr>
        <p:pic>
          <p:nvPicPr>
            <p:cNvPr id="1026" name="Picture 2" descr="D:\我的文档-桌面-收藏夹\桌面\2330384_083209508912_2副本.jpg"/>
            <p:cNvPicPr/>
            <p:nvPr/>
          </p:nvPicPr>
          <p:blipFill>
            <a:blip r:embed="rId9"/>
            <a:srcRect l="0" t="2784" r="44447" b="0"/>
            <a:stretch/>
          </p:blipFill>
          <p:spPr>
            <a:xfrm>
              <a:off x="733320" y="1405080"/>
              <a:ext cx="1251000" cy="146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Picture 2" descr="D:\我的文档-桌面-收藏夹\桌面\2330384_083209508912_2副本.jpg"/>
            <p:cNvPicPr/>
            <p:nvPr/>
          </p:nvPicPr>
          <p:blipFill>
            <a:blip r:embed="rId10"/>
            <a:srcRect l="53705" t="0" r="0" b="0"/>
            <a:stretch/>
          </p:blipFill>
          <p:spPr>
            <a:xfrm>
              <a:off x="2477520" y="1523880"/>
              <a:ext cx="1022760" cy="147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2" descr="21"/>
            <p:cNvPicPr/>
            <p:nvPr/>
          </p:nvPicPr>
          <p:blipFill>
            <a:blip r:embed="rId11"/>
            <a:stretch/>
          </p:blipFill>
          <p:spPr>
            <a:xfrm rot="943800">
              <a:off x="1764720" y="2246760"/>
              <a:ext cx="393480" cy="7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Picture 42" descr="21"/>
            <p:cNvPicPr/>
            <p:nvPr/>
          </p:nvPicPr>
          <p:blipFill>
            <a:blip r:embed="rId12"/>
            <a:stretch/>
          </p:blipFill>
          <p:spPr>
            <a:xfrm flipH="1" rot="944400">
              <a:off x="2068920" y="2275200"/>
              <a:ext cx="414000" cy="75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0" name="Picture 2" descr="D:\我的文档-桌面-收藏夹\桌面\2.png"/>
          <p:cNvPicPr/>
          <p:nvPr/>
        </p:nvPicPr>
        <p:blipFill>
          <a:blip r:embed="rId13"/>
          <a:stretch/>
        </p:blipFill>
        <p:spPr>
          <a:xfrm>
            <a:off x="1714680" y="4500720"/>
            <a:ext cx="776160" cy="772920"/>
          </a:xfrm>
          <a:prstGeom prst="rect">
            <a:avLst/>
          </a:prstGeom>
          <a:ln w="0">
            <a:noFill/>
          </a:ln>
        </p:spPr>
      </p:pic>
      <p:sp>
        <p:nvSpPr>
          <p:cNvPr id="1031" name="TextBox 52"/>
          <p:cNvSpPr/>
          <p:nvPr/>
        </p:nvSpPr>
        <p:spPr>
          <a:xfrm>
            <a:off x="2857680" y="442908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把一个圆平均分成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份，每份是它的（    ）分之（    ），写作      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2" name="组合 69"/>
          <p:cNvGrpSpPr/>
          <p:nvPr/>
        </p:nvGrpSpPr>
        <p:grpSpPr>
          <a:xfrm>
            <a:off x="2857680" y="3143160"/>
            <a:ext cx="5143320" cy="1208520"/>
            <a:chOff x="2857680" y="3143160"/>
            <a:chExt cx="5143320" cy="1208520"/>
          </a:xfrm>
        </p:grpSpPr>
        <p:sp>
          <p:nvSpPr>
            <p:cNvPr id="1033" name="TextBox 67"/>
            <p:cNvSpPr/>
            <p:nvPr/>
          </p:nvSpPr>
          <p:spPr>
            <a:xfrm>
              <a:off x="2857680" y="3143160"/>
              <a:ext cx="514332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一块月饼平均分成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每份是它的（</a:t>
              </a:r>
              <a:r>
                <a:rPr b="0" lang="zh-CN" sz="25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    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分之一，写作       。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矩形 53"/>
            <p:cNvSpPr/>
            <p:nvPr/>
          </p:nvSpPr>
          <p:spPr>
            <a:xfrm>
              <a:off x="6464160" y="3495960"/>
              <a:ext cx="8085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   ）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直接连接符 60"/>
            <p:cNvSpPr/>
            <p:nvPr/>
          </p:nvSpPr>
          <p:spPr>
            <a:xfrm>
              <a:off x="6521760" y="3924720"/>
              <a:ext cx="7855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6" name="矩形 62"/>
          <p:cNvSpPr/>
          <p:nvPr/>
        </p:nvSpPr>
        <p:spPr>
          <a:xfrm>
            <a:off x="7157520" y="4773600"/>
            <a:ext cx="808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直接连接符 68"/>
          <p:cNvSpPr/>
          <p:nvPr/>
        </p:nvSpPr>
        <p:spPr>
          <a:xfrm>
            <a:off x="7122960" y="5202360"/>
            <a:ext cx="785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 Box 28"/>
          <p:cNvSpPr/>
          <p:nvPr/>
        </p:nvSpPr>
        <p:spPr>
          <a:xfrm>
            <a:off x="3643200" y="37148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四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 Box 28"/>
          <p:cNvSpPr/>
          <p:nvPr/>
        </p:nvSpPr>
        <p:spPr>
          <a:xfrm>
            <a:off x="6643800" y="392904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 Box 28"/>
          <p:cNvSpPr/>
          <p:nvPr/>
        </p:nvSpPr>
        <p:spPr>
          <a:xfrm>
            <a:off x="3286080" y="492444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Text Box 28"/>
          <p:cNvSpPr/>
          <p:nvPr/>
        </p:nvSpPr>
        <p:spPr>
          <a:xfrm>
            <a:off x="5214960" y="4987800"/>
            <a:ext cx="50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358040" y="471024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Text Box 28"/>
          <p:cNvSpPr/>
          <p:nvPr/>
        </p:nvSpPr>
        <p:spPr>
          <a:xfrm>
            <a:off x="7358040" y="5202360"/>
            <a:ext cx="50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TextBox 85"/>
          <p:cNvSpPr/>
          <p:nvPr/>
        </p:nvSpPr>
        <p:spPr>
          <a:xfrm>
            <a:off x="2857680" y="557208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把一张长方形纸平均分成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份。指出它的五分之一，并涂上颜色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5" name="组合 2"/>
          <p:cNvGrpSpPr/>
          <p:nvPr/>
        </p:nvGrpSpPr>
        <p:grpSpPr>
          <a:xfrm>
            <a:off x="733320" y="5492880"/>
            <a:ext cx="1927440" cy="712800"/>
            <a:chOff x="733320" y="5492880"/>
            <a:chExt cx="1927440" cy="712800"/>
          </a:xfrm>
        </p:grpSpPr>
        <p:grpSp>
          <p:nvGrpSpPr>
            <p:cNvPr id="1046" name="组合 86"/>
            <p:cNvGrpSpPr/>
            <p:nvPr/>
          </p:nvGrpSpPr>
          <p:grpSpPr>
            <a:xfrm>
              <a:off x="733320" y="5492880"/>
              <a:ext cx="1927440" cy="712800"/>
              <a:chOff x="733320" y="5492880"/>
              <a:chExt cx="1927440" cy="712800"/>
            </a:xfrm>
          </p:grpSpPr>
          <p:sp>
            <p:nvSpPr>
              <p:cNvPr id="1047" name="矩形 76"/>
              <p:cNvSpPr/>
              <p:nvPr/>
            </p:nvSpPr>
            <p:spPr>
              <a:xfrm>
                <a:off x="733320" y="5492880"/>
                <a:ext cx="1927440" cy="712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直接连接符 78"/>
              <p:cNvSpPr/>
              <p:nvPr/>
            </p:nvSpPr>
            <p:spPr>
              <a:xfrm>
                <a:off x="1118520" y="5492880"/>
                <a:ext cx="0" cy="71280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直接连接符 80"/>
              <p:cNvSpPr/>
              <p:nvPr/>
            </p:nvSpPr>
            <p:spPr>
              <a:xfrm>
                <a:off x="1504080" y="5492880"/>
                <a:ext cx="0" cy="71280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直接连接符 81"/>
              <p:cNvSpPr/>
              <p:nvPr/>
            </p:nvSpPr>
            <p:spPr>
              <a:xfrm>
                <a:off x="1889640" y="5492880"/>
                <a:ext cx="0" cy="71280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直接连接符 82"/>
              <p:cNvSpPr/>
              <p:nvPr/>
            </p:nvSpPr>
            <p:spPr>
              <a:xfrm>
                <a:off x="2275200" y="5492880"/>
                <a:ext cx="0" cy="712800"/>
              </a:xfrm>
              <a:prstGeom prst="line">
                <a:avLst/>
              </a:prstGeom>
              <a:ln w="9360">
                <a:solidFill>
                  <a:srgbClr val="00b0f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2" name="矩形 87"/>
            <p:cNvSpPr/>
            <p:nvPr/>
          </p:nvSpPr>
          <p:spPr>
            <a:xfrm>
              <a:off x="733320" y="5492880"/>
              <a:ext cx="428040" cy="71280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3" name="八边形 3"/>
          <p:cNvSpPr/>
          <p:nvPr/>
        </p:nvSpPr>
        <p:spPr>
          <a:xfrm>
            <a:off x="287280" y="100476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4" name="组合 6"/>
          <p:cNvGrpSpPr/>
          <p:nvPr/>
        </p:nvGrpSpPr>
        <p:grpSpPr>
          <a:xfrm>
            <a:off x="4518000" y="519120"/>
            <a:ext cx="4438800" cy="2690640"/>
            <a:chOff x="4518000" y="519120"/>
            <a:chExt cx="4438800" cy="2690640"/>
          </a:xfrm>
        </p:grpSpPr>
        <p:grpSp>
          <p:nvGrpSpPr>
            <p:cNvPr id="1055" name="组合 63"/>
            <p:cNvGrpSpPr/>
            <p:nvPr/>
          </p:nvGrpSpPr>
          <p:grpSpPr>
            <a:xfrm>
              <a:off x="4518000" y="519120"/>
              <a:ext cx="3525480" cy="1516320"/>
              <a:chOff x="4518000" y="519120"/>
              <a:chExt cx="3525480" cy="1516320"/>
            </a:xfrm>
          </p:grpSpPr>
          <p:sp>
            <p:nvSpPr>
              <p:cNvPr id="1056" name="AutoShape 27"/>
              <p:cNvSpPr/>
              <p:nvPr/>
            </p:nvSpPr>
            <p:spPr>
              <a:xfrm>
                <a:off x="4518000" y="519120"/>
                <a:ext cx="3525480" cy="1487160"/>
              </a:xfrm>
              <a:prstGeom prst="wedgeRoundRectCallout">
                <a:avLst>
                  <a:gd name="adj1" fmla="val 44731"/>
                  <a:gd name="adj2" fmla="val 69537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把一块月饼平均分成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r>
                  <a:rPr b="0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份，每份是这块月饼的一半，也就是它的二分之一，写作   。</a:t>
                </a:r>
                <a:r>
                  <a:rPr b="0" lang="zh-CN" sz="2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 </a:t>
                </a: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057" name="组合 17"/>
              <p:cNvGrpSpPr/>
              <p:nvPr/>
            </p:nvGrpSpPr>
            <p:grpSpPr>
              <a:xfrm>
                <a:off x="7234560" y="1406160"/>
                <a:ext cx="404280" cy="629280"/>
                <a:chOff x="7234560" y="1406160"/>
                <a:chExt cx="404280" cy="629280"/>
              </a:xfrm>
            </p:grpSpPr>
            <p:sp>
              <p:nvSpPr>
                <p:cNvPr id="1058" name="TextBox 13"/>
                <p:cNvSpPr/>
                <p:nvPr/>
              </p:nvSpPr>
              <p:spPr>
                <a:xfrm>
                  <a:off x="7234560" y="1406160"/>
                  <a:ext cx="404280" cy="62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25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5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25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59" name="直接连接符 15"/>
                <p:cNvSpPr/>
                <p:nvPr/>
              </p:nvSpPr>
              <p:spPr>
                <a:xfrm>
                  <a:off x="7234560" y="1720080"/>
                  <a:ext cx="28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060" name="图片 4" descr="6)5][}VZ%@FXJ)FA]TI76$O"/>
            <p:cNvPicPr/>
            <p:nvPr/>
          </p:nvPicPr>
          <p:blipFill>
            <a:blip r:embed="rId14"/>
            <a:stretch/>
          </p:blipFill>
          <p:spPr>
            <a:xfrm>
              <a:off x="8000280" y="2189880"/>
              <a:ext cx="956520" cy="1019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TextBox 6"/>
          <p:cNvSpPr/>
          <p:nvPr/>
        </p:nvSpPr>
        <p:spPr>
          <a:xfrm>
            <a:off x="4898880" y="2793960"/>
            <a:ext cx="2816280" cy="489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读作：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三分之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2" name="Group 26"/>
          <p:cNvGrpSpPr/>
          <p:nvPr/>
        </p:nvGrpSpPr>
        <p:grpSpPr>
          <a:xfrm>
            <a:off x="1643040" y="2405160"/>
            <a:ext cx="865080" cy="1532520"/>
            <a:chOff x="1643040" y="2405160"/>
            <a:chExt cx="865080" cy="1532520"/>
          </a:xfrm>
        </p:grpSpPr>
        <p:sp>
          <p:nvSpPr>
            <p:cNvPr id="1063" name="Text Box 22"/>
            <p:cNvSpPr/>
            <p:nvPr/>
          </p:nvSpPr>
          <p:spPr>
            <a:xfrm>
              <a:off x="1643040" y="2405160"/>
              <a:ext cx="865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Text Box 23"/>
            <p:cNvSpPr/>
            <p:nvPr/>
          </p:nvSpPr>
          <p:spPr>
            <a:xfrm>
              <a:off x="1693800" y="3203640"/>
              <a:ext cx="7621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1808280" y="3165480"/>
              <a:ext cx="533160" cy="360"/>
              <a:chOff x="1808280" y="3165480"/>
              <a:chExt cx="533160" cy="360"/>
            </a:xfrm>
          </p:grpSpPr>
          <p:sp>
            <p:nvSpPr>
              <p:cNvPr id="1066" name="Line 24"/>
              <p:cNvSpPr/>
              <p:nvPr/>
            </p:nvSpPr>
            <p:spPr>
              <a:xfrm>
                <a:off x="1808280" y="3165480"/>
                <a:ext cx="533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"/>
              <p:cNvSpPr txBox="1"/>
              <p:nvPr/>
            </p:nvSpPr>
            <p:spPr>
              <a:xfrm>
                <a:off x="1808280" y="3165480"/>
                <a:ext cx="533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68" name="Text Box 27"/>
          <p:cNvSpPr/>
          <p:nvPr/>
        </p:nvSpPr>
        <p:spPr>
          <a:xfrm>
            <a:off x="2343240" y="278460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宋体"/>
              </a:rPr>
              <a:t>……</a:t>
            </a:r>
            <a:r>
              <a:rPr b="0" lang="en-US" sz="2600" spc="-1" strike="noStrike">
                <a:solidFill>
                  <a:srgbClr val="0066ff"/>
                </a:solidFill>
                <a:latin typeface="宋体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分数线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Text Box 28"/>
          <p:cNvSpPr/>
          <p:nvPr/>
        </p:nvSpPr>
        <p:spPr>
          <a:xfrm>
            <a:off x="2343240" y="235908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宋体"/>
              </a:rPr>
              <a:t>……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分子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Text Box 29"/>
          <p:cNvSpPr/>
          <p:nvPr/>
        </p:nvSpPr>
        <p:spPr>
          <a:xfrm>
            <a:off x="2343240" y="3301920"/>
            <a:ext cx="34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宋体"/>
              </a:rPr>
              <a:t>……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分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TextBox 14"/>
          <p:cNvSpPr/>
          <p:nvPr/>
        </p:nvSpPr>
        <p:spPr>
          <a:xfrm>
            <a:off x="1285920" y="1143000"/>
            <a:ext cx="6143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像  、  、  、   这样的数，都是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分数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。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TextBox 17"/>
          <p:cNvSpPr/>
          <p:nvPr/>
        </p:nvSpPr>
        <p:spPr>
          <a:xfrm>
            <a:off x="1714680" y="1000080"/>
            <a:ext cx="4284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直接连接符 19"/>
          <p:cNvSpPr/>
          <p:nvPr/>
        </p:nvSpPr>
        <p:spPr>
          <a:xfrm>
            <a:off x="1785960" y="15001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TextBox 23"/>
          <p:cNvSpPr/>
          <p:nvPr/>
        </p:nvSpPr>
        <p:spPr>
          <a:xfrm>
            <a:off x="2357280" y="1000080"/>
            <a:ext cx="428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直接连接符 24"/>
          <p:cNvSpPr/>
          <p:nvPr/>
        </p:nvSpPr>
        <p:spPr>
          <a:xfrm>
            <a:off x="2428920" y="15001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TextBox 25"/>
          <p:cNvSpPr/>
          <p:nvPr/>
        </p:nvSpPr>
        <p:spPr>
          <a:xfrm>
            <a:off x="3000240" y="1000080"/>
            <a:ext cx="428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直接连接符 26"/>
          <p:cNvSpPr/>
          <p:nvPr/>
        </p:nvSpPr>
        <p:spPr>
          <a:xfrm>
            <a:off x="3071880" y="15001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27"/>
          <p:cNvSpPr/>
          <p:nvPr/>
        </p:nvSpPr>
        <p:spPr>
          <a:xfrm>
            <a:off x="3643200" y="1000080"/>
            <a:ext cx="428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直接连接符 28"/>
          <p:cNvSpPr/>
          <p:nvPr/>
        </p:nvSpPr>
        <p:spPr>
          <a:xfrm>
            <a:off x="3714840" y="150012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1" name="圆角矩形 2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83" name="椭圆 3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84" name="椭圆 4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椭圆 8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86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1" name="八边形 17"/>
          <p:cNvSpPr/>
          <p:nvPr/>
        </p:nvSpPr>
        <p:spPr>
          <a:xfrm>
            <a:off x="287280" y="100476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TextBox 3"/>
          <p:cNvSpPr/>
          <p:nvPr/>
        </p:nvSpPr>
        <p:spPr>
          <a:xfrm>
            <a:off x="1036800" y="928800"/>
            <a:ext cx="70722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拿一张正方形纸折一折，表示出它的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  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TextBox 4"/>
          <p:cNvSpPr/>
          <p:nvPr/>
        </p:nvSpPr>
        <p:spPr>
          <a:xfrm>
            <a:off x="6929280" y="928800"/>
            <a:ext cx="571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直接连接符 5"/>
          <p:cNvSpPr/>
          <p:nvPr/>
        </p:nvSpPr>
        <p:spPr>
          <a:xfrm>
            <a:off x="6858000" y="135720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AutoShape 27"/>
          <p:cNvSpPr/>
          <p:nvPr/>
        </p:nvSpPr>
        <p:spPr>
          <a:xfrm>
            <a:off x="5072040" y="2000160"/>
            <a:ext cx="2286000" cy="714600"/>
          </a:xfrm>
          <a:prstGeom prst="wedgeRoundRectCallout">
            <a:avLst>
              <a:gd name="adj1" fmla="val -60282"/>
              <a:gd name="adj2" fmla="val 4981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我是这样折的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AutoShape 27"/>
          <p:cNvSpPr/>
          <p:nvPr/>
        </p:nvSpPr>
        <p:spPr>
          <a:xfrm>
            <a:off x="1285920" y="2357280"/>
            <a:ext cx="1785960" cy="714600"/>
          </a:xfrm>
          <a:prstGeom prst="wedgeRoundRectCallout">
            <a:avLst>
              <a:gd name="adj1" fmla="val 59717"/>
              <a:gd name="adj2" fmla="val -315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c1c1c"/>
                </a:solidFill>
                <a:latin typeface="宋体"/>
                <a:ea typeface="宋体"/>
              </a:rPr>
              <a:t>我这样折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7" name="Picture 3" descr="D:\我的文档-桌面-收藏夹\桌面\1.png"/>
          <p:cNvPicPr/>
          <p:nvPr/>
        </p:nvPicPr>
        <p:blipFill>
          <a:blip r:embed="rId1"/>
          <a:stretch/>
        </p:blipFill>
        <p:spPr>
          <a:xfrm>
            <a:off x="2643120" y="2749680"/>
            <a:ext cx="38019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10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9" name="圆角矩形 2" descr=""/>
            <p:cNvPicPr/>
            <p:nvPr/>
          </p:nvPicPr>
          <p:blipFill>
            <a:blip r:embed="rId2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01" name="椭圆 3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2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3" name="椭圆 6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04" name="椭圆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9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10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11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12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9" name="八边形 13"/>
          <p:cNvSpPr/>
          <p:nvPr/>
        </p:nvSpPr>
        <p:spPr>
          <a:xfrm>
            <a:off x="287280" y="1004760"/>
            <a:ext cx="51444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组合 2"/>
          <p:cNvGrpSpPr/>
          <p:nvPr/>
        </p:nvGrpSpPr>
        <p:grpSpPr>
          <a:xfrm>
            <a:off x="-31680" y="101520"/>
            <a:ext cx="3244680" cy="525600"/>
            <a:chOff x="-31680" y="101520"/>
            <a:chExt cx="3244680" cy="525600"/>
          </a:xfrm>
        </p:grpSpPr>
        <p:pic>
          <p:nvPicPr>
            <p:cNvPr id="111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1880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2" name="组合 4"/>
            <p:cNvGrpSpPr/>
            <p:nvPr/>
          </p:nvGrpSpPr>
          <p:grpSpPr>
            <a:xfrm>
              <a:off x="-31680" y="197280"/>
              <a:ext cx="429840" cy="271800"/>
              <a:chOff x="-31680" y="197280"/>
              <a:chExt cx="429840" cy="271800"/>
            </a:xfrm>
          </p:grpSpPr>
          <p:sp>
            <p:nvSpPr>
              <p:cNvPr id="1113" name="椭圆 1"/>
              <p:cNvSpPr/>
              <p:nvPr/>
            </p:nvSpPr>
            <p:spPr>
              <a:xfrm rot="16200000">
                <a:off x="21132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14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648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5" name="椭圆 29"/>
              <p:cNvSpPr/>
              <p:nvPr/>
            </p:nvSpPr>
            <p:spPr>
              <a:xfrm rot="16200000">
                <a:off x="21132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1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48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3168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168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3168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3168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21" name="组合 21"/>
          <p:cNvGrpSpPr/>
          <p:nvPr/>
        </p:nvGrpSpPr>
        <p:grpSpPr>
          <a:xfrm>
            <a:off x="765720" y="973080"/>
            <a:ext cx="1830960" cy="1830960"/>
            <a:chOff x="765720" y="973080"/>
            <a:chExt cx="1830960" cy="1830960"/>
          </a:xfrm>
        </p:grpSpPr>
        <p:sp>
          <p:nvSpPr>
            <p:cNvPr id="1122" name="饼形 17"/>
            <p:cNvSpPr/>
            <p:nvPr/>
          </p:nvSpPr>
          <p:spPr>
            <a:xfrm rot="8160000">
              <a:off x="1033200" y="1241280"/>
              <a:ext cx="1295280" cy="129456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86" y="1729"/>
                  </a:moveTo>
                  <a:cubicBezTo>
                    <a:pt x="108" y="1545"/>
                    <a:pt x="-1" y="1295"/>
                    <a:pt x="-1" y="1020"/>
                  </a:cubicBezTo>
                  <a:cubicBezTo>
                    <a:pt x="-1" y="599"/>
                    <a:pt x="254" y="237"/>
                    <a:pt x="619" y="82"/>
                  </a:cubicBezTo>
                  <a:lnTo>
                    <a:pt x="1020" y="1020"/>
                  </a:lnTo>
                  <a:close/>
                </a:path>
              </a:pathLst>
            </a:cu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椭圆 11"/>
            <p:cNvSpPr/>
            <p:nvPr/>
          </p:nvSpPr>
          <p:spPr>
            <a:xfrm>
              <a:off x="1033560" y="1242360"/>
              <a:ext cx="1295280" cy="129456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饼形 19"/>
            <p:cNvSpPr/>
            <p:nvPr/>
          </p:nvSpPr>
          <p:spPr>
            <a:xfrm rot="14820000">
              <a:off x="1033920" y="1241280"/>
              <a:ext cx="1294560" cy="129528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86" y="1729"/>
                  </a:moveTo>
                  <a:cubicBezTo>
                    <a:pt x="108" y="1545"/>
                    <a:pt x="-1" y="1295"/>
                    <a:pt x="-1" y="1020"/>
                  </a:cubicBezTo>
                  <a:cubicBezTo>
                    <a:pt x="-1" y="457"/>
                    <a:pt x="456" y="0"/>
                    <a:pt x="1019" y="0"/>
                  </a:cubicBezTo>
                  <a:cubicBezTo>
                    <a:pt x="1582" y="0"/>
                    <a:pt x="2039" y="457"/>
                    <a:pt x="2039" y="1020"/>
                  </a:cubicBezTo>
                  <a:cubicBezTo>
                    <a:pt x="2039" y="1161"/>
                    <a:pt x="2010" y="1295"/>
                    <a:pt x="1959" y="1417"/>
                  </a:cubicBezTo>
                  <a:lnTo>
                    <a:pt x="1020" y="102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5" name="组合 27"/>
          <p:cNvGrpSpPr/>
          <p:nvPr/>
        </p:nvGrpSpPr>
        <p:grpSpPr>
          <a:xfrm>
            <a:off x="3591000" y="1219320"/>
            <a:ext cx="1379520" cy="1399680"/>
            <a:chOff x="3591000" y="1219320"/>
            <a:chExt cx="1379520" cy="1399680"/>
          </a:xfrm>
        </p:grpSpPr>
        <p:sp>
          <p:nvSpPr>
            <p:cNvPr id="1126" name="矩形 22"/>
            <p:cNvSpPr/>
            <p:nvPr/>
          </p:nvSpPr>
          <p:spPr>
            <a:xfrm>
              <a:off x="4050720" y="1219320"/>
              <a:ext cx="459720" cy="46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矩形 23"/>
            <p:cNvSpPr/>
            <p:nvPr/>
          </p:nvSpPr>
          <p:spPr>
            <a:xfrm>
              <a:off x="4050720" y="1685880"/>
              <a:ext cx="459720" cy="46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矩形 24"/>
            <p:cNvSpPr/>
            <p:nvPr/>
          </p:nvSpPr>
          <p:spPr>
            <a:xfrm>
              <a:off x="3591000" y="1685880"/>
              <a:ext cx="459720" cy="466560"/>
            </a:xfrm>
            <a:prstGeom prst="rect">
              <a:avLst/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矩形 25"/>
            <p:cNvSpPr/>
            <p:nvPr/>
          </p:nvSpPr>
          <p:spPr>
            <a:xfrm>
              <a:off x="4510800" y="1685880"/>
              <a:ext cx="459720" cy="46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矩形 26"/>
            <p:cNvSpPr/>
            <p:nvPr/>
          </p:nvSpPr>
          <p:spPr>
            <a:xfrm>
              <a:off x="4050720" y="2152440"/>
              <a:ext cx="459720" cy="466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1" name="组合 41"/>
          <p:cNvGrpSpPr/>
          <p:nvPr/>
        </p:nvGrpSpPr>
        <p:grpSpPr>
          <a:xfrm>
            <a:off x="6121080" y="1218960"/>
            <a:ext cx="1297440" cy="1317960"/>
            <a:chOff x="6121080" y="1218960"/>
            <a:chExt cx="1297440" cy="1317960"/>
          </a:xfrm>
        </p:grpSpPr>
        <p:sp>
          <p:nvSpPr>
            <p:cNvPr id="1132" name="六边形 35"/>
            <p:cNvSpPr/>
            <p:nvPr/>
          </p:nvSpPr>
          <p:spPr>
            <a:xfrm>
              <a:off x="6121440" y="1219320"/>
              <a:ext cx="1297080" cy="1296720"/>
            </a:xfrm>
            <a:prstGeom prst="hexagon">
              <a:avLst>
                <a:gd name="adj" fmla="val 25007"/>
                <a:gd name="vf" fmla="val 11547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等腰三角形 36"/>
            <p:cNvSpPr/>
            <p:nvPr/>
          </p:nvSpPr>
          <p:spPr>
            <a:xfrm>
              <a:off x="6121440" y="1240920"/>
              <a:ext cx="637560" cy="624600"/>
            </a:xfrm>
            <a:prstGeom prst="triangle">
              <a:avLst>
                <a:gd name="adj" fmla="val 5169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等腰三角形 37"/>
            <p:cNvSpPr/>
            <p:nvPr/>
          </p:nvSpPr>
          <p:spPr>
            <a:xfrm flipV="1">
              <a:off x="6450840" y="1218600"/>
              <a:ext cx="637920" cy="64620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等腰三角形 38"/>
            <p:cNvSpPr/>
            <p:nvPr/>
          </p:nvSpPr>
          <p:spPr>
            <a:xfrm rot="10800000">
              <a:off x="6121080" y="1865520"/>
              <a:ext cx="637560" cy="671040"/>
            </a:xfrm>
            <a:prstGeom prst="triangle">
              <a:avLst>
                <a:gd name="adj" fmla="val 5169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等腰三角形 39"/>
            <p:cNvSpPr/>
            <p:nvPr/>
          </p:nvSpPr>
          <p:spPr>
            <a:xfrm>
              <a:off x="6450840" y="1866240"/>
              <a:ext cx="637920" cy="670680"/>
            </a:xfrm>
            <a:prstGeom prst="triangle">
              <a:avLst>
                <a:gd name="adj" fmla="val 5169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等腰三角形 40"/>
            <p:cNvSpPr/>
            <p:nvPr/>
          </p:nvSpPr>
          <p:spPr>
            <a:xfrm rot="10800000">
              <a:off x="6780240" y="1865520"/>
              <a:ext cx="637560" cy="671040"/>
            </a:xfrm>
            <a:prstGeom prst="triangle">
              <a:avLst>
                <a:gd name="adj" fmla="val 5169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8" name="组合 10"/>
          <p:cNvGrpSpPr/>
          <p:nvPr/>
        </p:nvGrpSpPr>
        <p:grpSpPr>
          <a:xfrm>
            <a:off x="939960" y="3476520"/>
            <a:ext cx="1188720" cy="972720"/>
            <a:chOff x="939960" y="3476520"/>
            <a:chExt cx="1188720" cy="972720"/>
          </a:xfrm>
        </p:grpSpPr>
        <p:grpSp>
          <p:nvGrpSpPr>
            <p:cNvPr id="1139" name="组合 32"/>
            <p:cNvGrpSpPr/>
            <p:nvPr/>
          </p:nvGrpSpPr>
          <p:grpSpPr>
            <a:xfrm>
              <a:off x="939960" y="3535200"/>
              <a:ext cx="1188720" cy="819720"/>
              <a:chOff x="939960" y="3535200"/>
              <a:chExt cx="1188720" cy="819720"/>
            </a:xfrm>
          </p:grpSpPr>
          <p:sp>
            <p:nvSpPr>
              <p:cNvPr id="1140" name="Text Box 54"/>
              <p:cNvSpPr/>
              <p:nvPr/>
            </p:nvSpPr>
            <p:spPr>
              <a:xfrm>
                <a:off x="939960" y="3535200"/>
                <a:ext cx="11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Text Box 55"/>
              <p:cNvSpPr/>
              <p:nvPr/>
            </p:nvSpPr>
            <p:spPr>
              <a:xfrm>
                <a:off x="939960" y="3986640"/>
                <a:ext cx="118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42" name=""/>
              <p:cNvGrpSpPr/>
              <p:nvPr/>
            </p:nvGrpSpPr>
            <p:grpSpPr>
              <a:xfrm>
                <a:off x="1269000" y="4001400"/>
                <a:ext cx="527400" cy="360"/>
                <a:chOff x="1269000" y="4001400"/>
                <a:chExt cx="527400" cy="360"/>
              </a:xfrm>
            </p:grpSpPr>
            <p:sp>
              <p:nvSpPr>
                <p:cNvPr id="1143" name="Line 56"/>
                <p:cNvSpPr/>
                <p:nvPr/>
              </p:nvSpPr>
              <p:spPr>
                <a:xfrm>
                  <a:off x="1269000" y="4001400"/>
                  <a:ext cx="527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4" name=""/>
                <p:cNvSpPr txBox="1"/>
                <p:nvPr/>
              </p:nvSpPr>
              <p:spPr>
                <a:xfrm>
                  <a:off x="1269000" y="4001400"/>
                  <a:ext cx="527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145" name="文本框 2"/>
            <p:cNvSpPr/>
            <p:nvPr/>
          </p:nvSpPr>
          <p:spPr>
            <a:xfrm>
              <a:off x="1338840" y="3962880"/>
              <a:ext cx="45828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文本框 3"/>
            <p:cNvSpPr/>
            <p:nvPr/>
          </p:nvSpPr>
          <p:spPr>
            <a:xfrm>
              <a:off x="1338840" y="3476520"/>
              <a:ext cx="45828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7" name="组合 11"/>
          <p:cNvGrpSpPr/>
          <p:nvPr/>
        </p:nvGrpSpPr>
        <p:grpSpPr>
          <a:xfrm>
            <a:off x="3686040" y="3500280"/>
            <a:ext cx="1190880" cy="1049400"/>
            <a:chOff x="3686040" y="3500280"/>
            <a:chExt cx="1190880" cy="1049400"/>
          </a:xfrm>
        </p:grpSpPr>
        <p:grpSp>
          <p:nvGrpSpPr>
            <p:cNvPr id="1148" name="组合 32"/>
            <p:cNvGrpSpPr/>
            <p:nvPr/>
          </p:nvGrpSpPr>
          <p:grpSpPr>
            <a:xfrm>
              <a:off x="3686040" y="3597120"/>
              <a:ext cx="1190880" cy="819360"/>
              <a:chOff x="3686040" y="3597120"/>
              <a:chExt cx="1190880" cy="819360"/>
            </a:xfrm>
          </p:grpSpPr>
          <p:sp>
            <p:nvSpPr>
              <p:cNvPr id="1149" name="Text Box 54"/>
              <p:cNvSpPr/>
              <p:nvPr/>
            </p:nvSpPr>
            <p:spPr>
              <a:xfrm>
                <a:off x="3686040" y="3597120"/>
                <a:ext cx="119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Text Box 55"/>
              <p:cNvSpPr/>
              <p:nvPr/>
            </p:nvSpPr>
            <p:spPr>
              <a:xfrm>
                <a:off x="3686040" y="4048200"/>
                <a:ext cx="119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4015800" y="4062960"/>
                <a:ext cx="528120" cy="360"/>
                <a:chOff x="4015800" y="4062960"/>
                <a:chExt cx="528120" cy="360"/>
              </a:xfrm>
            </p:grpSpPr>
            <p:sp>
              <p:nvSpPr>
                <p:cNvPr id="1152" name="Line 56"/>
                <p:cNvSpPr/>
                <p:nvPr/>
              </p:nvSpPr>
              <p:spPr>
                <a:xfrm>
                  <a:off x="4015800" y="4062960"/>
                  <a:ext cx="528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3" name=""/>
                <p:cNvSpPr txBox="1"/>
                <p:nvPr/>
              </p:nvSpPr>
              <p:spPr>
                <a:xfrm>
                  <a:off x="4015800" y="4062960"/>
                  <a:ext cx="528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154" name="文本框 4"/>
            <p:cNvSpPr/>
            <p:nvPr/>
          </p:nvSpPr>
          <p:spPr>
            <a:xfrm>
              <a:off x="4085280" y="4063320"/>
              <a:ext cx="45828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文本框 6"/>
            <p:cNvSpPr/>
            <p:nvPr/>
          </p:nvSpPr>
          <p:spPr>
            <a:xfrm>
              <a:off x="4085280" y="3500280"/>
              <a:ext cx="45828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6" name="组合 12"/>
          <p:cNvGrpSpPr/>
          <p:nvPr/>
        </p:nvGrpSpPr>
        <p:grpSpPr>
          <a:xfrm>
            <a:off x="6121440" y="3562200"/>
            <a:ext cx="1190520" cy="987120"/>
            <a:chOff x="6121440" y="3562200"/>
            <a:chExt cx="1190520" cy="987120"/>
          </a:xfrm>
        </p:grpSpPr>
        <p:grpSp>
          <p:nvGrpSpPr>
            <p:cNvPr id="1157" name="组合 32"/>
            <p:cNvGrpSpPr/>
            <p:nvPr/>
          </p:nvGrpSpPr>
          <p:grpSpPr>
            <a:xfrm>
              <a:off x="6121440" y="3596760"/>
              <a:ext cx="1190520" cy="819720"/>
              <a:chOff x="6121440" y="3596760"/>
              <a:chExt cx="1190520" cy="819720"/>
            </a:xfrm>
          </p:grpSpPr>
          <p:sp>
            <p:nvSpPr>
              <p:cNvPr id="1158" name="Text Box 54"/>
              <p:cNvSpPr/>
              <p:nvPr/>
            </p:nvSpPr>
            <p:spPr>
              <a:xfrm>
                <a:off x="6121440" y="3596760"/>
                <a:ext cx="11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Text Box 55"/>
              <p:cNvSpPr/>
              <p:nvPr/>
            </p:nvSpPr>
            <p:spPr>
              <a:xfrm>
                <a:off x="6121440" y="4048200"/>
                <a:ext cx="11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0" name=""/>
              <p:cNvGrpSpPr/>
              <p:nvPr/>
            </p:nvGrpSpPr>
            <p:grpSpPr>
              <a:xfrm>
                <a:off x="6451200" y="4062960"/>
                <a:ext cx="528120" cy="360"/>
                <a:chOff x="6451200" y="4062960"/>
                <a:chExt cx="528120" cy="360"/>
              </a:xfrm>
            </p:grpSpPr>
            <p:sp>
              <p:nvSpPr>
                <p:cNvPr id="1161" name="Line 56"/>
                <p:cNvSpPr/>
                <p:nvPr/>
              </p:nvSpPr>
              <p:spPr>
                <a:xfrm>
                  <a:off x="6451200" y="4062960"/>
                  <a:ext cx="528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2" name=""/>
                <p:cNvSpPr txBox="1"/>
                <p:nvPr/>
              </p:nvSpPr>
              <p:spPr>
                <a:xfrm>
                  <a:off x="6451200" y="4062960"/>
                  <a:ext cx="528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163" name="文本框 8"/>
            <p:cNvSpPr/>
            <p:nvPr/>
          </p:nvSpPr>
          <p:spPr>
            <a:xfrm>
              <a:off x="6540480" y="3562200"/>
              <a:ext cx="45828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文本框 9"/>
            <p:cNvSpPr/>
            <p:nvPr/>
          </p:nvSpPr>
          <p:spPr>
            <a:xfrm>
              <a:off x="6541200" y="4062960"/>
              <a:ext cx="458280" cy="4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5" name="组合 2"/>
          <p:cNvGrpSpPr/>
          <p:nvPr/>
        </p:nvGrpSpPr>
        <p:grpSpPr>
          <a:xfrm>
            <a:off x="-31680" y="101520"/>
            <a:ext cx="3244680" cy="525600"/>
            <a:chOff x="-31680" y="101520"/>
            <a:chExt cx="3244680" cy="525600"/>
          </a:xfrm>
        </p:grpSpPr>
        <p:pic>
          <p:nvPicPr>
            <p:cNvPr id="116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1880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7" name="组合 4"/>
            <p:cNvGrpSpPr/>
            <p:nvPr/>
          </p:nvGrpSpPr>
          <p:grpSpPr>
            <a:xfrm>
              <a:off x="-31680" y="197280"/>
              <a:ext cx="429840" cy="271800"/>
              <a:chOff x="-31680" y="197280"/>
              <a:chExt cx="429840" cy="271800"/>
            </a:xfrm>
          </p:grpSpPr>
          <p:sp>
            <p:nvSpPr>
              <p:cNvPr id="1168" name="椭圆 1"/>
              <p:cNvSpPr/>
              <p:nvPr/>
            </p:nvSpPr>
            <p:spPr>
              <a:xfrm rot="16200000">
                <a:off x="21132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6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648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椭圆 29"/>
              <p:cNvSpPr/>
              <p:nvPr/>
            </p:nvSpPr>
            <p:spPr>
              <a:xfrm rot="16200000">
                <a:off x="21132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7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48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3168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168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3168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3168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76" name="组合 21"/>
          <p:cNvGrpSpPr/>
          <p:nvPr/>
        </p:nvGrpSpPr>
        <p:grpSpPr>
          <a:xfrm>
            <a:off x="379080" y="2078640"/>
            <a:ext cx="1809360" cy="1809360"/>
            <a:chOff x="379080" y="2078640"/>
            <a:chExt cx="1809360" cy="1809360"/>
          </a:xfrm>
        </p:grpSpPr>
        <p:sp>
          <p:nvSpPr>
            <p:cNvPr id="1177" name="饼形 17"/>
            <p:cNvSpPr/>
            <p:nvPr/>
          </p:nvSpPr>
          <p:spPr>
            <a:xfrm rot="11400000">
              <a:off x="636480" y="2334960"/>
              <a:ext cx="1295280" cy="129492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86" y="1729"/>
                  </a:moveTo>
                  <a:cubicBezTo>
                    <a:pt x="108" y="1545"/>
                    <a:pt x="-1" y="1295"/>
                    <a:pt x="-1" y="1020"/>
                  </a:cubicBezTo>
                  <a:cubicBezTo>
                    <a:pt x="-1" y="599"/>
                    <a:pt x="254" y="237"/>
                    <a:pt x="619" y="82"/>
                  </a:cubicBezTo>
                  <a:lnTo>
                    <a:pt x="1020" y="1020"/>
                  </a:lnTo>
                  <a:close/>
                </a:path>
              </a:pathLst>
            </a:custGeom>
            <a:solidFill>
              <a:srgbClr val="00b0f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椭圆 11"/>
            <p:cNvSpPr/>
            <p:nvPr/>
          </p:nvSpPr>
          <p:spPr>
            <a:xfrm rot="3240000">
              <a:off x="636120" y="2335320"/>
              <a:ext cx="1295280" cy="1295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饼形 19"/>
            <p:cNvSpPr/>
            <p:nvPr/>
          </p:nvSpPr>
          <p:spPr>
            <a:xfrm rot="18060000">
              <a:off x="636840" y="2334600"/>
              <a:ext cx="1294920" cy="129528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86" y="1729"/>
                  </a:moveTo>
                  <a:cubicBezTo>
                    <a:pt x="108" y="1545"/>
                    <a:pt x="-1" y="1295"/>
                    <a:pt x="-1" y="1020"/>
                  </a:cubicBezTo>
                  <a:cubicBezTo>
                    <a:pt x="-1" y="457"/>
                    <a:pt x="456" y="0"/>
                    <a:pt x="1019" y="0"/>
                  </a:cubicBezTo>
                  <a:cubicBezTo>
                    <a:pt x="1582" y="0"/>
                    <a:pt x="2039" y="457"/>
                    <a:pt x="2039" y="1020"/>
                  </a:cubicBezTo>
                  <a:cubicBezTo>
                    <a:pt x="2039" y="1161"/>
                    <a:pt x="2010" y="1295"/>
                    <a:pt x="1959" y="1417"/>
                  </a:cubicBezTo>
                  <a:lnTo>
                    <a:pt x="1020" y="102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0" name="椭圆 4"/>
          <p:cNvSpPr/>
          <p:nvPr/>
        </p:nvSpPr>
        <p:spPr>
          <a:xfrm rot="3240000">
            <a:off x="2260080" y="2363400"/>
            <a:ext cx="1295280" cy="1295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饼形 13"/>
          <p:cNvSpPr/>
          <p:nvPr/>
        </p:nvSpPr>
        <p:spPr>
          <a:xfrm rot="13500000">
            <a:off x="2249640" y="2374560"/>
            <a:ext cx="1295280" cy="1295280"/>
          </a:xfrm>
          <a:custGeom>
            <a:avLst/>
            <a:gdLst/>
            <a:ahLst/>
            <a:rect l="l" t="t" r="r" b="b"/>
            <a:pathLst>
              <a:path w="1296035" h="1296035">
                <a:moveTo>
                  <a:pt x="183223" y="196471"/>
                </a:moveTo>
                <a:cubicBezTo>
                  <a:pt x="300972" y="75288"/>
                  <a:pt x="465702" y="-1"/>
                  <a:pt x="648016" y="-1"/>
                </a:cubicBezTo>
                <a:lnTo>
                  <a:pt x="648017" y="648017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饼形 14"/>
          <p:cNvSpPr/>
          <p:nvPr/>
        </p:nvSpPr>
        <p:spPr>
          <a:xfrm rot="19020000">
            <a:off x="2249280" y="2374560"/>
            <a:ext cx="1295280" cy="1295280"/>
          </a:xfrm>
          <a:custGeom>
            <a:avLst/>
            <a:gdLst/>
            <a:ahLst/>
            <a:rect l="l" t="t" r="r" b="b"/>
            <a:pathLst>
              <a:path w="1296035" h="1296035">
                <a:moveTo>
                  <a:pt x="183223" y="196471"/>
                </a:moveTo>
                <a:cubicBezTo>
                  <a:pt x="300972" y="75288"/>
                  <a:pt x="465702" y="-1"/>
                  <a:pt x="648016" y="-1"/>
                </a:cubicBezTo>
                <a:lnTo>
                  <a:pt x="648017" y="648017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饼形 18"/>
          <p:cNvSpPr/>
          <p:nvPr/>
        </p:nvSpPr>
        <p:spPr>
          <a:xfrm rot="8160000">
            <a:off x="2249280" y="2362320"/>
            <a:ext cx="1295280" cy="1296720"/>
          </a:xfrm>
          <a:custGeom>
            <a:avLst/>
            <a:gdLst/>
            <a:ahLst/>
            <a:rect l="l" t="t" r="r" b="b"/>
            <a:pathLst>
              <a:path w="1296035" h="1296035">
                <a:moveTo>
                  <a:pt x="183223" y="196471"/>
                </a:moveTo>
                <a:cubicBezTo>
                  <a:pt x="300972" y="75288"/>
                  <a:pt x="465702" y="-1"/>
                  <a:pt x="648016" y="-1"/>
                </a:cubicBezTo>
                <a:lnTo>
                  <a:pt x="648017" y="648017"/>
                </a:lnTo>
                <a:close/>
              </a:path>
            </a:pathLst>
          </a:cu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4" name="组合 22"/>
          <p:cNvGrpSpPr/>
          <p:nvPr/>
        </p:nvGrpSpPr>
        <p:grpSpPr>
          <a:xfrm>
            <a:off x="2243160" y="2357280"/>
            <a:ext cx="1306440" cy="1306440"/>
            <a:chOff x="2243160" y="2357280"/>
            <a:chExt cx="1306440" cy="1306440"/>
          </a:xfrm>
        </p:grpSpPr>
        <p:sp>
          <p:nvSpPr>
            <p:cNvPr id="1185" name="饼形 12"/>
            <p:cNvSpPr/>
            <p:nvPr/>
          </p:nvSpPr>
          <p:spPr>
            <a:xfrm>
              <a:off x="2254320" y="2358360"/>
              <a:ext cx="1295280" cy="129420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88" y="309"/>
                  </a:moveTo>
                  <a:cubicBezTo>
                    <a:pt x="474" y="119"/>
                    <a:pt x="733" y="0"/>
                    <a:pt x="1020" y="0"/>
                  </a:cubicBezTo>
                  <a:lnTo>
                    <a:pt x="1020" y="102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饼形 15"/>
            <p:cNvSpPr/>
            <p:nvPr/>
          </p:nvSpPr>
          <p:spPr>
            <a:xfrm rot="16200000">
              <a:off x="2243520" y="2366640"/>
              <a:ext cx="1294200" cy="129528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88" y="309"/>
                  </a:moveTo>
                  <a:cubicBezTo>
                    <a:pt x="474" y="119"/>
                    <a:pt x="733" y="0"/>
                    <a:pt x="1020" y="0"/>
                  </a:cubicBezTo>
                  <a:lnTo>
                    <a:pt x="1020" y="102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饼形 16"/>
            <p:cNvSpPr/>
            <p:nvPr/>
          </p:nvSpPr>
          <p:spPr>
            <a:xfrm rot="10800000">
              <a:off x="2254320" y="2369520"/>
              <a:ext cx="1295280" cy="129420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88" y="309"/>
                  </a:moveTo>
                  <a:cubicBezTo>
                    <a:pt x="474" y="119"/>
                    <a:pt x="733" y="0"/>
                    <a:pt x="1020" y="0"/>
                  </a:cubicBezTo>
                  <a:lnTo>
                    <a:pt x="1020" y="102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饼形 20"/>
            <p:cNvSpPr/>
            <p:nvPr/>
          </p:nvSpPr>
          <p:spPr>
            <a:xfrm rot="5400000">
              <a:off x="2253960" y="2356560"/>
              <a:ext cx="1294200" cy="1295280"/>
            </a:xfrm>
            <a:custGeom>
              <a:avLst/>
              <a:gdLst/>
              <a:ahLst/>
              <a:rect l="l" t="t" r="r" b="b"/>
              <a:pathLst>
                <a:path w="2041" h="2041">
                  <a:moveTo>
                    <a:pt x="288" y="309"/>
                  </a:moveTo>
                  <a:cubicBezTo>
                    <a:pt x="474" y="119"/>
                    <a:pt x="733" y="0"/>
                    <a:pt x="1020" y="0"/>
                  </a:cubicBezTo>
                  <a:lnTo>
                    <a:pt x="1020" y="102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9" name="组合 77"/>
          <p:cNvGrpSpPr/>
          <p:nvPr/>
        </p:nvGrpSpPr>
        <p:grpSpPr>
          <a:xfrm>
            <a:off x="4797000" y="2136600"/>
            <a:ext cx="2841840" cy="563400"/>
            <a:chOff x="4797000" y="2136600"/>
            <a:chExt cx="2841840" cy="563400"/>
          </a:xfrm>
        </p:grpSpPr>
        <p:sp>
          <p:nvSpPr>
            <p:cNvPr id="1190" name="直接连接符 26"/>
            <p:cNvSpPr/>
            <p:nvPr/>
          </p:nvSpPr>
          <p:spPr>
            <a:xfrm>
              <a:off x="5190120" y="2136600"/>
              <a:ext cx="19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91" name="组合 40"/>
            <p:cNvGrpSpPr/>
            <p:nvPr/>
          </p:nvGrpSpPr>
          <p:grpSpPr>
            <a:xfrm>
              <a:off x="4797000" y="2586600"/>
              <a:ext cx="288360" cy="110880"/>
              <a:chOff x="4797000" y="2586600"/>
              <a:chExt cx="288360" cy="110880"/>
            </a:xfrm>
          </p:grpSpPr>
          <p:sp>
            <p:nvSpPr>
              <p:cNvPr id="1192" name="Line 13"/>
              <p:cNvSpPr/>
              <p:nvPr/>
            </p:nvSpPr>
            <p:spPr>
              <a:xfrm flipH="1">
                <a:off x="4797000" y="2691360"/>
                <a:ext cx="28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直接连接符 38"/>
              <p:cNvSpPr/>
              <p:nvPr/>
            </p:nvSpPr>
            <p:spPr>
              <a:xfrm>
                <a:off x="4799880" y="258948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直接连接符 39"/>
              <p:cNvSpPr/>
              <p:nvPr/>
            </p:nvSpPr>
            <p:spPr>
              <a:xfrm>
                <a:off x="5078160" y="258660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95" name="组合 41"/>
            <p:cNvGrpSpPr/>
            <p:nvPr/>
          </p:nvGrpSpPr>
          <p:grpSpPr>
            <a:xfrm>
              <a:off x="5086080" y="2589120"/>
              <a:ext cx="288360" cy="110880"/>
              <a:chOff x="5086080" y="2589120"/>
              <a:chExt cx="288360" cy="110880"/>
            </a:xfrm>
          </p:grpSpPr>
          <p:sp>
            <p:nvSpPr>
              <p:cNvPr id="1196" name="Line 13"/>
              <p:cNvSpPr/>
              <p:nvPr/>
            </p:nvSpPr>
            <p:spPr>
              <a:xfrm flipH="1">
                <a:off x="5086080" y="2697840"/>
                <a:ext cx="28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直接连接符 43"/>
              <p:cNvSpPr/>
              <p:nvPr/>
            </p:nvSpPr>
            <p:spPr>
              <a:xfrm>
                <a:off x="5086440" y="259200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直接连接符 44"/>
              <p:cNvSpPr/>
              <p:nvPr/>
            </p:nvSpPr>
            <p:spPr>
              <a:xfrm>
                <a:off x="5364000" y="258912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99" name="组合 45"/>
            <p:cNvGrpSpPr/>
            <p:nvPr/>
          </p:nvGrpSpPr>
          <p:grpSpPr>
            <a:xfrm>
              <a:off x="5374440" y="2585880"/>
              <a:ext cx="288360" cy="110880"/>
              <a:chOff x="5374440" y="2585880"/>
              <a:chExt cx="288360" cy="110880"/>
            </a:xfrm>
          </p:grpSpPr>
          <p:sp>
            <p:nvSpPr>
              <p:cNvPr id="1200" name="Line 13"/>
              <p:cNvSpPr/>
              <p:nvPr/>
            </p:nvSpPr>
            <p:spPr>
              <a:xfrm flipH="1">
                <a:off x="5374440" y="2694600"/>
                <a:ext cx="28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直接连接符 47"/>
              <p:cNvSpPr/>
              <p:nvPr/>
            </p:nvSpPr>
            <p:spPr>
              <a:xfrm>
                <a:off x="5374800" y="25887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直接连接符 48"/>
              <p:cNvSpPr/>
              <p:nvPr/>
            </p:nvSpPr>
            <p:spPr>
              <a:xfrm>
                <a:off x="5652360" y="258588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3" name="组合 49"/>
            <p:cNvGrpSpPr/>
            <p:nvPr/>
          </p:nvGrpSpPr>
          <p:grpSpPr>
            <a:xfrm>
              <a:off x="5652000" y="2589120"/>
              <a:ext cx="288360" cy="110880"/>
              <a:chOff x="5652000" y="2589120"/>
              <a:chExt cx="288360" cy="110880"/>
            </a:xfrm>
          </p:grpSpPr>
          <p:sp>
            <p:nvSpPr>
              <p:cNvPr id="1204" name="Line 13"/>
              <p:cNvSpPr/>
              <p:nvPr/>
            </p:nvSpPr>
            <p:spPr>
              <a:xfrm flipH="1">
                <a:off x="5652000" y="2697840"/>
                <a:ext cx="28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直接连接符 51"/>
              <p:cNvSpPr/>
              <p:nvPr/>
            </p:nvSpPr>
            <p:spPr>
              <a:xfrm>
                <a:off x="5652360" y="259200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直接连接符 52"/>
              <p:cNvSpPr/>
              <p:nvPr/>
            </p:nvSpPr>
            <p:spPr>
              <a:xfrm>
                <a:off x="5929920" y="258912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7" name="组合 53"/>
            <p:cNvGrpSpPr/>
            <p:nvPr/>
          </p:nvGrpSpPr>
          <p:grpSpPr>
            <a:xfrm>
              <a:off x="5940720" y="2585520"/>
              <a:ext cx="288360" cy="110520"/>
              <a:chOff x="5940720" y="2585520"/>
              <a:chExt cx="288360" cy="110520"/>
            </a:xfrm>
          </p:grpSpPr>
          <p:sp>
            <p:nvSpPr>
              <p:cNvPr id="1208" name="Line 13"/>
              <p:cNvSpPr/>
              <p:nvPr/>
            </p:nvSpPr>
            <p:spPr>
              <a:xfrm flipH="1">
                <a:off x="5940720" y="2693880"/>
                <a:ext cx="28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直接连接符 55"/>
              <p:cNvSpPr/>
              <p:nvPr/>
            </p:nvSpPr>
            <p:spPr>
              <a:xfrm>
                <a:off x="5941080" y="258840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直接连接符 56"/>
              <p:cNvSpPr/>
              <p:nvPr/>
            </p:nvSpPr>
            <p:spPr>
              <a:xfrm>
                <a:off x="6218640" y="25855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1" name="组合 57"/>
            <p:cNvGrpSpPr/>
            <p:nvPr/>
          </p:nvGrpSpPr>
          <p:grpSpPr>
            <a:xfrm>
              <a:off x="6218280" y="2584800"/>
              <a:ext cx="288360" cy="110880"/>
              <a:chOff x="6218280" y="2584800"/>
              <a:chExt cx="288360" cy="110880"/>
            </a:xfrm>
          </p:grpSpPr>
          <p:sp>
            <p:nvSpPr>
              <p:cNvPr id="1212" name="Line 13"/>
              <p:cNvSpPr/>
              <p:nvPr/>
            </p:nvSpPr>
            <p:spPr>
              <a:xfrm flipH="1">
                <a:off x="6218280" y="2693520"/>
                <a:ext cx="28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直接连接符 59"/>
              <p:cNvSpPr/>
              <p:nvPr/>
            </p:nvSpPr>
            <p:spPr>
              <a:xfrm>
                <a:off x="6218640" y="258768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直接连接符 60"/>
              <p:cNvSpPr/>
              <p:nvPr/>
            </p:nvSpPr>
            <p:spPr>
              <a:xfrm>
                <a:off x="6496200" y="258480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5" name="组合 61"/>
            <p:cNvGrpSpPr/>
            <p:nvPr/>
          </p:nvGrpSpPr>
          <p:grpSpPr>
            <a:xfrm>
              <a:off x="6495840" y="2583360"/>
              <a:ext cx="288360" cy="110880"/>
              <a:chOff x="6495840" y="2583360"/>
              <a:chExt cx="288360" cy="110880"/>
            </a:xfrm>
          </p:grpSpPr>
          <p:sp>
            <p:nvSpPr>
              <p:cNvPr id="1216" name="Line 13"/>
              <p:cNvSpPr/>
              <p:nvPr/>
            </p:nvSpPr>
            <p:spPr>
              <a:xfrm flipH="1">
                <a:off x="6495840" y="2692080"/>
                <a:ext cx="28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直接连接符 63"/>
              <p:cNvSpPr/>
              <p:nvPr/>
            </p:nvSpPr>
            <p:spPr>
              <a:xfrm>
                <a:off x="6496200" y="258624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直接连接符 64"/>
              <p:cNvSpPr/>
              <p:nvPr/>
            </p:nvSpPr>
            <p:spPr>
              <a:xfrm>
                <a:off x="6773760" y="25833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9" name="组合 65"/>
            <p:cNvGrpSpPr/>
            <p:nvPr/>
          </p:nvGrpSpPr>
          <p:grpSpPr>
            <a:xfrm>
              <a:off x="6773400" y="2584080"/>
              <a:ext cx="288360" cy="110520"/>
              <a:chOff x="6773400" y="2584080"/>
              <a:chExt cx="288360" cy="110520"/>
            </a:xfrm>
          </p:grpSpPr>
          <p:sp>
            <p:nvSpPr>
              <p:cNvPr id="1220" name="Line 13"/>
              <p:cNvSpPr/>
              <p:nvPr/>
            </p:nvSpPr>
            <p:spPr>
              <a:xfrm flipH="1">
                <a:off x="6773400" y="2692440"/>
                <a:ext cx="28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直接连接符 67"/>
              <p:cNvSpPr/>
              <p:nvPr/>
            </p:nvSpPr>
            <p:spPr>
              <a:xfrm>
                <a:off x="6773760" y="258696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直接连接符 68"/>
              <p:cNvSpPr/>
              <p:nvPr/>
            </p:nvSpPr>
            <p:spPr>
              <a:xfrm>
                <a:off x="7051320" y="258408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23" name="组合 69"/>
            <p:cNvGrpSpPr/>
            <p:nvPr/>
          </p:nvGrpSpPr>
          <p:grpSpPr>
            <a:xfrm>
              <a:off x="7062120" y="2589120"/>
              <a:ext cx="288360" cy="110880"/>
              <a:chOff x="7062120" y="2589120"/>
              <a:chExt cx="288360" cy="110880"/>
            </a:xfrm>
          </p:grpSpPr>
          <p:sp>
            <p:nvSpPr>
              <p:cNvPr id="1224" name="Line 13"/>
              <p:cNvSpPr/>
              <p:nvPr/>
            </p:nvSpPr>
            <p:spPr>
              <a:xfrm flipH="1">
                <a:off x="7062120" y="2697840"/>
                <a:ext cx="28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直接连接符 71"/>
              <p:cNvSpPr/>
              <p:nvPr/>
            </p:nvSpPr>
            <p:spPr>
              <a:xfrm>
                <a:off x="7062480" y="259200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直接连接符 72"/>
              <p:cNvSpPr/>
              <p:nvPr/>
            </p:nvSpPr>
            <p:spPr>
              <a:xfrm>
                <a:off x="7340040" y="258912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27" name="组合 73"/>
            <p:cNvGrpSpPr/>
            <p:nvPr/>
          </p:nvGrpSpPr>
          <p:grpSpPr>
            <a:xfrm>
              <a:off x="7350480" y="2580840"/>
              <a:ext cx="288360" cy="110520"/>
              <a:chOff x="7350480" y="2580840"/>
              <a:chExt cx="288360" cy="110520"/>
            </a:xfrm>
          </p:grpSpPr>
          <p:sp>
            <p:nvSpPr>
              <p:cNvPr id="1228" name="Line 13"/>
              <p:cNvSpPr/>
              <p:nvPr/>
            </p:nvSpPr>
            <p:spPr>
              <a:xfrm flipH="1">
                <a:off x="7350480" y="2689200"/>
                <a:ext cx="28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直接连接符 75"/>
              <p:cNvSpPr/>
              <p:nvPr/>
            </p:nvSpPr>
            <p:spPr>
              <a:xfrm>
                <a:off x="7350840" y="25837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直接连接符 76"/>
              <p:cNvSpPr/>
              <p:nvPr/>
            </p:nvSpPr>
            <p:spPr>
              <a:xfrm>
                <a:off x="7628400" y="258084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31" name="直接连接符 79"/>
          <p:cNvSpPr/>
          <p:nvPr/>
        </p:nvSpPr>
        <p:spPr>
          <a:xfrm>
            <a:off x="5191200" y="2924280"/>
            <a:ext cx="19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2" name="组合 120"/>
          <p:cNvGrpSpPr/>
          <p:nvPr/>
        </p:nvGrpSpPr>
        <p:grpSpPr>
          <a:xfrm>
            <a:off x="4799160" y="3376440"/>
            <a:ext cx="2817360" cy="128520"/>
            <a:chOff x="4799160" y="3376440"/>
            <a:chExt cx="2817360" cy="128520"/>
          </a:xfrm>
        </p:grpSpPr>
        <p:grpSp>
          <p:nvGrpSpPr>
            <p:cNvPr id="1233" name="组合 80"/>
            <p:cNvGrpSpPr/>
            <p:nvPr/>
          </p:nvGrpSpPr>
          <p:grpSpPr>
            <a:xfrm>
              <a:off x="4799160" y="3378600"/>
              <a:ext cx="288000" cy="110880"/>
              <a:chOff x="4799160" y="3378600"/>
              <a:chExt cx="288000" cy="110880"/>
            </a:xfrm>
          </p:grpSpPr>
          <p:sp>
            <p:nvSpPr>
              <p:cNvPr id="1234" name="Line 13"/>
              <p:cNvSpPr/>
              <p:nvPr/>
            </p:nvSpPr>
            <p:spPr>
              <a:xfrm flipH="1">
                <a:off x="4799160" y="3487320"/>
                <a:ext cx="2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直接连接符 82"/>
              <p:cNvSpPr/>
              <p:nvPr/>
            </p:nvSpPr>
            <p:spPr>
              <a:xfrm>
                <a:off x="4799160" y="338148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直接连接符 83"/>
              <p:cNvSpPr/>
              <p:nvPr/>
            </p:nvSpPr>
            <p:spPr>
              <a:xfrm>
                <a:off x="5076360" y="337860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37" name="组合 84"/>
            <p:cNvGrpSpPr/>
            <p:nvPr/>
          </p:nvGrpSpPr>
          <p:grpSpPr>
            <a:xfrm>
              <a:off x="5087160" y="3376440"/>
              <a:ext cx="288000" cy="110520"/>
              <a:chOff x="5087160" y="3376440"/>
              <a:chExt cx="288000" cy="110520"/>
            </a:xfrm>
          </p:grpSpPr>
          <p:sp>
            <p:nvSpPr>
              <p:cNvPr id="1238" name="Line 13"/>
              <p:cNvSpPr/>
              <p:nvPr/>
            </p:nvSpPr>
            <p:spPr>
              <a:xfrm flipH="1">
                <a:off x="5087160" y="3484800"/>
                <a:ext cx="2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直接连接符 86"/>
              <p:cNvSpPr/>
              <p:nvPr/>
            </p:nvSpPr>
            <p:spPr>
              <a:xfrm>
                <a:off x="5087160" y="33793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直接连接符 87"/>
              <p:cNvSpPr/>
              <p:nvPr/>
            </p:nvSpPr>
            <p:spPr>
              <a:xfrm>
                <a:off x="5364360" y="337644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1" name="组合 88"/>
            <p:cNvGrpSpPr/>
            <p:nvPr/>
          </p:nvGrpSpPr>
          <p:grpSpPr>
            <a:xfrm>
              <a:off x="5364000" y="3381480"/>
              <a:ext cx="288000" cy="110880"/>
              <a:chOff x="5364000" y="3381480"/>
              <a:chExt cx="288000" cy="110880"/>
            </a:xfrm>
          </p:grpSpPr>
          <p:sp>
            <p:nvSpPr>
              <p:cNvPr id="1242" name="Line 13"/>
              <p:cNvSpPr/>
              <p:nvPr/>
            </p:nvSpPr>
            <p:spPr>
              <a:xfrm flipH="1">
                <a:off x="5364000" y="3490200"/>
                <a:ext cx="2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直接连接符 90"/>
              <p:cNvSpPr/>
              <p:nvPr/>
            </p:nvSpPr>
            <p:spPr>
              <a:xfrm>
                <a:off x="5364000" y="33843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直接连接符 91"/>
              <p:cNvSpPr/>
              <p:nvPr/>
            </p:nvSpPr>
            <p:spPr>
              <a:xfrm>
                <a:off x="5641200" y="338148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5" name="组合 92"/>
            <p:cNvGrpSpPr/>
            <p:nvPr/>
          </p:nvGrpSpPr>
          <p:grpSpPr>
            <a:xfrm>
              <a:off x="5653080" y="3376440"/>
              <a:ext cx="288000" cy="110520"/>
              <a:chOff x="5653080" y="3376440"/>
              <a:chExt cx="288000" cy="110520"/>
            </a:xfrm>
          </p:grpSpPr>
          <p:sp>
            <p:nvSpPr>
              <p:cNvPr id="1246" name="Line 13"/>
              <p:cNvSpPr/>
              <p:nvPr/>
            </p:nvSpPr>
            <p:spPr>
              <a:xfrm flipH="1">
                <a:off x="5653080" y="3484800"/>
                <a:ext cx="2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直接连接符 94"/>
              <p:cNvSpPr/>
              <p:nvPr/>
            </p:nvSpPr>
            <p:spPr>
              <a:xfrm>
                <a:off x="5653080" y="33793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直接连接符 95"/>
              <p:cNvSpPr/>
              <p:nvPr/>
            </p:nvSpPr>
            <p:spPr>
              <a:xfrm>
                <a:off x="5930280" y="337644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9" name="组合 96"/>
            <p:cNvGrpSpPr/>
            <p:nvPr/>
          </p:nvGrpSpPr>
          <p:grpSpPr>
            <a:xfrm>
              <a:off x="5941440" y="3384000"/>
              <a:ext cx="288000" cy="110520"/>
              <a:chOff x="5941440" y="3384000"/>
              <a:chExt cx="288000" cy="110520"/>
            </a:xfrm>
          </p:grpSpPr>
          <p:sp>
            <p:nvSpPr>
              <p:cNvPr id="1250" name="Line 13"/>
              <p:cNvSpPr/>
              <p:nvPr/>
            </p:nvSpPr>
            <p:spPr>
              <a:xfrm flipH="1">
                <a:off x="5941440" y="3492360"/>
                <a:ext cx="2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直接连接符 98"/>
              <p:cNvSpPr/>
              <p:nvPr/>
            </p:nvSpPr>
            <p:spPr>
              <a:xfrm>
                <a:off x="5941440" y="338688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直接连接符 99"/>
              <p:cNvSpPr/>
              <p:nvPr/>
            </p:nvSpPr>
            <p:spPr>
              <a:xfrm>
                <a:off x="6218640" y="338400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3" name="组合 100"/>
            <p:cNvGrpSpPr/>
            <p:nvPr/>
          </p:nvGrpSpPr>
          <p:grpSpPr>
            <a:xfrm>
              <a:off x="6207480" y="3386520"/>
              <a:ext cx="288000" cy="110880"/>
              <a:chOff x="6207480" y="3386520"/>
              <a:chExt cx="288000" cy="110880"/>
            </a:xfrm>
          </p:grpSpPr>
          <p:sp>
            <p:nvSpPr>
              <p:cNvPr id="1254" name="Line 13"/>
              <p:cNvSpPr/>
              <p:nvPr/>
            </p:nvSpPr>
            <p:spPr>
              <a:xfrm flipH="1">
                <a:off x="6207480" y="3495240"/>
                <a:ext cx="2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直接连接符 102"/>
              <p:cNvSpPr/>
              <p:nvPr/>
            </p:nvSpPr>
            <p:spPr>
              <a:xfrm>
                <a:off x="6207480" y="338940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直接连接符 103"/>
              <p:cNvSpPr/>
              <p:nvPr/>
            </p:nvSpPr>
            <p:spPr>
              <a:xfrm>
                <a:off x="6484680" y="338652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57" name="组合 104"/>
            <p:cNvGrpSpPr/>
            <p:nvPr/>
          </p:nvGrpSpPr>
          <p:grpSpPr>
            <a:xfrm>
              <a:off x="6484680" y="3389040"/>
              <a:ext cx="288360" cy="110880"/>
              <a:chOff x="6484680" y="3389040"/>
              <a:chExt cx="288360" cy="110880"/>
            </a:xfrm>
          </p:grpSpPr>
          <p:sp>
            <p:nvSpPr>
              <p:cNvPr id="1258" name="Line 13"/>
              <p:cNvSpPr/>
              <p:nvPr/>
            </p:nvSpPr>
            <p:spPr>
              <a:xfrm flipH="1">
                <a:off x="6484680" y="3497760"/>
                <a:ext cx="28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直接连接符 106"/>
              <p:cNvSpPr/>
              <p:nvPr/>
            </p:nvSpPr>
            <p:spPr>
              <a:xfrm>
                <a:off x="6485040" y="339192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直接连接符 107"/>
              <p:cNvSpPr/>
              <p:nvPr/>
            </p:nvSpPr>
            <p:spPr>
              <a:xfrm>
                <a:off x="6762600" y="338904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1" name="组合 108"/>
            <p:cNvGrpSpPr/>
            <p:nvPr/>
          </p:nvGrpSpPr>
          <p:grpSpPr>
            <a:xfrm>
              <a:off x="6762600" y="3391560"/>
              <a:ext cx="288000" cy="110520"/>
              <a:chOff x="6762600" y="3391560"/>
              <a:chExt cx="288000" cy="110520"/>
            </a:xfrm>
          </p:grpSpPr>
          <p:sp>
            <p:nvSpPr>
              <p:cNvPr id="1262" name="Line 13"/>
              <p:cNvSpPr/>
              <p:nvPr/>
            </p:nvSpPr>
            <p:spPr>
              <a:xfrm flipH="1">
                <a:off x="6762600" y="3499920"/>
                <a:ext cx="2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直接连接符 110"/>
              <p:cNvSpPr/>
              <p:nvPr/>
            </p:nvSpPr>
            <p:spPr>
              <a:xfrm>
                <a:off x="6762600" y="339444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直接连接符 111"/>
              <p:cNvSpPr/>
              <p:nvPr/>
            </p:nvSpPr>
            <p:spPr>
              <a:xfrm>
                <a:off x="7039800" y="339156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5" name="组合 112"/>
            <p:cNvGrpSpPr/>
            <p:nvPr/>
          </p:nvGrpSpPr>
          <p:grpSpPr>
            <a:xfrm>
              <a:off x="7050960" y="3394080"/>
              <a:ext cx="288000" cy="110880"/>
              <a:chOff x="7050960" y="3394080"/>
              <a:chExt cx="288000" cy="110880"/>
            </a:xfrm>
          </p:grpSpPr>
          <p:sp>
            <p:nvSpPr>
              <p:cNvPr id="1266" name="Line 13"/>
              <p:cNvSpPr/>
              <p:nvPr/>
            </p:nvSpPr>
            <p:spPr>
              <a:xfrm flipH="1">
                <a:off x="7050960" y="3502800"/>
                <a:ext cx="2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直接连接符 114"/>
              <p:cNvSpPr/>
              <p:nvPr/>
            </p:nvSpPr>
            <p:spPr>
              <a:xfrm>
                <a:off x="7050960" y="339696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直接连接符 115"/>
              <p:cNvSpPr/>
              <p:nvPr/>
            </p:nvSpPr>
            <p:spPr>
              <a:xfrm>
                <a:off x="7328160" y="3394080"/>
                <a:ext cx="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69" name="组合 116"/>
            <p:cNvGrpSpPr/>
            <p:nvPr/>
          </p:nvGrpSpPr>
          <p:grpSpPr>
            <a:xfrm>
              <a:off x="7328520" y="3387240"/>
              <a:ext cx="288000" cy="110520"/>
              <a:chOff x="7328520" y="3387240"/>
              <a:chExt cx="288000" cy="110520"/>
            </a:xfrm>
          </p:grpSpPr>
          <p:sp>
            <p:nvSpPr>
              <p:cNvPr id="1270" name="Line 13"/>
              <p:cNvSpPr/>
              <p:nvPr/>
            </p:nvSpPr>
            <p:spPr>
              <a:xfrm flipH="1">
                <a:off x="7328520" y="3495600"/>
                <a:ext cx="2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直接连接符 118"/>
              <p:cNvSpPr/>
              <p:nvPr/>
            </p:nvSpPr>
            <p:spPr>
              <a:xfrm>
                <a:off x="7328520" y="339012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直接连接符 119"/>
              <p:cNvSpPr/>
              <p:nvPr/>
            </p:nvSpPr>
            <p:spPr>
              <a:xfrm>
                <a:off x="7605720" y="3387240"/>
                <a:ext cx="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273" name="AutoShape 24"/>
          <p:cNvSpPr/>
          <p:nvPr/>
        </p:nvSpPr>
        <p:spPr>
          <a:xfrm flipH="1" flipV="1" rot="5400000">
            <a:off x="4891320" y="3063600"/>
            <a:ext cx="76320" cy="289080"/>
          </a:xfrm>
          <a:custGeom>
            <a:avLst/>
            <a:gdLst>
              <a:gd name="textAreaLeft" fmla="*/ 0 w 76320"/>
              <a:gd name="textAreaRight" fmla="*/ 27360 w 76320"/>
              <a:gd name="textAreaTop" fmla="*/ 5760 h 289080"/>
              <a:gd name="textAreaBottom" fmla="*/ 2833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6"/>
                  <a:pt x="10800" y="1432"/>
                </a:cubicBezTo>
                <a:lnTo>
                  <a:pt x="10800" y="9368"/>
                </a:lnTo>
                <a:cubicBezTo>
                  <a:pt x="10800" y="10084"/>
                  <a:pt x="16200" y="10800"/>
                  <a:pt x="21600" y="10800"/>
                </a:cubicBezTo>
                <a:cubicBezTo>
                  <a:pt x="16200" y="10800"/>
                  <a:pt x="10800" y="11516"/>
                  <a:pt x="10800" y="12232"/>
                </a:cubicBezTo>
                <a:lnTo>
                  <a:pt x="10800" y="20168"/>
                </a:lnTo>
                <a:cubicBezTo>
                  <a:pt x="10800" y="2088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AutoShape 24"/>
          <p:cNvSpPr/>
          <p:nvPr/>
        </p:nvSpPr>
        <p:spPr>
          <a:xfrm flipH="1" flipV="1" rot="5400000">
            <a:off x="4890960" y="2263680"/>
            <a:ext cx="76320" cy="285840"/>
          </a:xfrm>
          <a:custGeom>
            <a:avLst/>
            <a:gdLst>
              <a:gd name="textAreaLeft" fmla="*/ 0 w 76320"/>
              <a:gd name="textAreaRight" fmla="*/ 27360 w 76320"/>
              <a:gd name="textAreaTop" fmla="*/ 5760 h 285840"/>
              <a:gd name="textAreaBottom" fmla="*/ 2800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6"/>
                  <a:pt x="10800" y="1432"/>
                </a:cubicBezTo>
                <a:lnTo>
                  <a:pt x="10800" y="9368"/>
                </a:lnTo>
                <a:cubicBezTo>
                  <a:pt x="10800" y="10084"/>
                  <a:pt x="16200" y="10800"/>
                  <a:pt x="21600" y="10800"/>
                </a:cubicBezTo>
                <a:cubicBezTo>
                  <a:pt x="16200" y="10800"/>
                  <a:pt x="10800" y="11516"/>
                  <a:pt x="10800" y="12232"/>
                </a:cubicBezTo>
                <a:lnTo>
                  <a:pt x="10800" y="20168"/>
                </a:lnTo>
                <a:cubicBezTo>
                  <a:pt x="10800" y="20884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5" name="组合 21"/>
          <p:cNvGrpSpPr/>
          <p:nvPr/>
        </p:nvGrpSpPr>
        <p:grpSpPr>
          <a:xfrm>
            <a:off x="533520" y="4102200"/>
            <a:ext cx="3016080" cy="1072800"/>
            <a:chOff x="533520" y="4102200"/>
            <a:chExt cx="3016080" cy="1072800"/>
          </a:xfrm>
        </p:grpSpPr>
        <p:grpSp>
          <p:nvGrpSpPr>
            <p:cNvPr id="1276" name="组合 14"/>
            <p:cNvGrpSpPr/>
            <p:nvPr/>
          </p:nvGrpSpPr>
          <p:grpSpPr>
            <a:xfrm>
              <a:off x="533520" y="4163040"/>
              <a:ext cx="1189800" cy="972000"/>
              <a:chOff x="533520" y="4163040"/>
              <a:chExt cx="1189800" cy="972000"/>
            </a:xfrm>
          </p:grpSpPr>
          <p:grpSp>
            <p:nvGrpSpPr>
              <p:cNvPr id="1277" name="组合 32"/>
              <p:cNvGrpSpPr/>
              <p:nvPr/>
            </p:nvGrpSpPr>
            <p:grpSpPr>
              <a:xfrm>
                <a:off x="533520" y="4223160"/>
                <a:ext cx="1189800" cy="819360"/>
                <a:chOff x="533520" y="4223160"/>
                <a:chExt cx="1189800" cy="819360"/>
              </a:xfrm>
            </p:grpSpPr>
            <p:sp>
              <p:nvSpPr>
                <p:cNvPr id="1278" name="Text Box 54"/>
                <p:cNvSpPr/>
                <p:nvPr/>
              </p:nvSpPr>
              <p:spPr>
                <a:xfrm>
                  <a:off x="533520" y="4223160"/>
                  <a:ext cx="1189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(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9" name="Text Box 55"/>
                <p:cNvSpPr/>
                <p:nvPr/>
              </p:nvSpPr>
              <p:spPr>
                <a:xfrm>
                  <a:off x="533520" y="4674240"/>
                  <a:ext cx="1189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(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80" name=""/>
                <p:cNvGrpSpPr/>
                <p:nvPr/>
              </p:nvGrpSpPr>
              <p:grpSpPr>
                <a:xfrm>
                  <a:off x="862920" y="4689000"/>
                  <a:ext cx="527760" cy="360"/>
                  <a:chOff x="862920" y="4689000"/>
                  <a:chExt cx="527760" cy="360"/>
                </a:xfrm>
              </p:grpSpPr>
              <p:sp>
                <p:nvSpPr>
                  <p:cNvPr id="1281" name="Line 56"/>
                  <p:cNvSpPr/>
                  <p:nvPr/>
                </p:nvSpPr>
                <p:spPr>
                  <a:xfrm>
                    <a:off x="862920" y="4689000"/>
                    <a:ext cx="5277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82" name=""/>
                  <p:cNvSpPr txBox="1"/>
                  <p:nvPr/>
                </p:nvSpPr>
                <p:spPr>
                  <a:xfrm>
                    <a:off x="862920" y="4689000"/>
                    <a:ext cx="5277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283" name="文本框 3"/>
              <p:cNvSpPr/>
              <p:nvPr/>
            </p:nvSpPr>
            <p:spPr>
              <a:xfrm>
                <a:off x="932760" y="4163040"/>
                <a:ext cx="45792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文本框 2"/>
              <p:cNvSpPr/>
              <p:nvPr/>
            </p:nvSpPr>
            <p:spPr>
              <a:xfrm>
                <a:off x="932760" y="4649040"/>
                <a:ext cx="45792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85" name="组合 20"/>
            <p:cNvGrpSpPr/>
            <p:nvPr/>
          </p:nvGrpSpPr>
          <p:grpSpPr>
            <a:xfrm>
              <a:off x="2360880" y="4102200"/>
              <a:ext cx="1188720" cy="1072800"/>
              <a:chOff x="2360880" y="4102200"/>
              <a:chExt cx="1188720" cy="1072800"/>
            </a:xfrm>
          </p:grpSpPr>
          <p:grpSp>
            <p:nvGrpSpPr>
              <p:cNvPr id="1286" name="组合 32"/>
              <p:cNvGrpSpPr/>
              <p:nvPr/>
            </p:nvGrpSpPr>
            <p:grpSpPr>
              <a:xfrm>
                <a:off x="2360880" y="4223160"/>
                <a:ext cx="1188720" cy="819360"/>
                <a:chOff x="2360880" y="4223160"/>
                <a:chExt cx="1188720" cy="819360"/>
              </a:xfrm>
            </p:grpSpPr>
            <p:sp>
              <p:nvSpPr>
                <p:cNvPr id="1287" name="Text Box 54"/>
                <p:cNvSpPr/>
                <p:nvPr/>
              </p:nvSpPr>
              <p:spPr>
                <a:xfrm>
                  <a:off x="2360880" y="4223160"/>
                  <a:ext cx="1188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(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8" name="Text Box 55"/>
                <p:cNvSpPr/>
                <p:nvPr/>
              </p:nvSpPr>
              <p:spPr>
                <a:xfrm>
                  <a:off x="2360880" y="4674240"/>
                  <a:ext cx="1188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(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289" name=""/>
                <p:cNvGrpSpPr/>
                <p:nvPr/>
              </p:nvGrpSpPr>
              <p:grpSpPr>
                <a:xfrm>
                  <a:off x="2689920" y="4689000"/>
                  <a:ext cx="527400" cy="360"/>
                  <a:chOff x="2689920" y="4689000"/>
                  <a:chExt cx="527400" cy="360"/>
                </a:xfrm>
              </p:grpSpPr>
              <p:sp>
                <p:nvSpPr>
                  <p:cNvPr id="1290" name="Line 56"/>
                  <p:cNvSpPr/>
                  <p:nvPr/>
                </p:nvSpPr>
                <p:spPr>
                  <a:xfrm>
                    <a:off x="2689920" y="4689000"/>
                    <a:ext cx="5274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91" name=""/>
                  <p:cNvSpPr txBox="1"/>
                  <p:nvPr/>
                </p:nvSpPr>
                <p:spPr>
                  <a:xfrm>
                    <a:off x="2689920" y="4689000"/>
                    <a:ext cx="527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1292" name="组合 15"/>
              <p:cNvGrpSpPr/>
              <p:nvPr/>
            </p:nvGrpSpPr>
            <p:grpSpPr>
              <a:xfrm>
                <a:off x="2759400" y="4102200"/>
                <a:ext cx="458280" cy="1072800"/>
                <a:chOff x="2759400" y="4102200"/>
                <a:chExt cx="458280" cy="1072800"/>
              </a:xfrm>
            </p:grpSpPr>
            <p:sp>
              <p:nvSpPr>
                <p:cNvPr id="1293" name="文本框 4"/>
                <p:cNvSpPr/>
                <p:nvPr/>
              </p:nvSpPr>
              <p:spPr>
                <a:xfrm>
                  <a:off x="2759400" y="4102200"/>
                  <a:ext cx="458280" cy="48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4" name="文本框 6"/>
                <p:cNvSpPr/>
                <p:nvPr/>
              </p:nvSpPr>
              <p:spPr>
                <a:xfrm>
                  <a:off x="2759400" y="4689000"/>
                  <a:ext cx="458280" cy="48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95" name="组合 18"/>
            <p:cNvGrpSpPr/>
            <p:nvPr/>
          </p:nvGrpSpPr>
          <p:grpSpPr>
            <a:xfrm>
              <a:off x="1741680" y="4391280"/>
              <a:ext cx="555840" cy="424800"/>
              <a:chOff x="1741680" y="4391280"/>
              <a:chExt cx="555840" cy="424800"/>
            </a:xfrm>
          </p:grpSpPr>
          <p:sp>
            <p:nvSpPr>
              <p:cNvPr id="1296" name="椭圆 139"/>
              <p:cNvSpPr/>
              <p:nvPr/>
            </p:nvSpPr>
            <p:spPr>
              <a:xfrm>
                <a:off x="1741680" y="4391280"/>
                <a:ext cx="431280" cy="4215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文本框 12"/>
              <p:cNvSpPr/>
              <p:nvPr/>
            </p:nvSpPr>
            <p:spPr>
              <a:xfrm>
                <a:off x="1742040" y="441720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0000"/>
                    </a:solidFill>
                    <a:latin typeface="Calibri"/>
                    <a:ea typeface="宋体"/>
                  </a:rPr>
                  <a:t>＞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98" name="组合 22"/>
          <p:cNvGrpSpPr/>
          <p:nvPr/>
        </p:nvGrpSpPr>
        <p:grpSpPr>
          <a:xfrm>
            <a:off x="4809960" y="4087800"/>
            <a:ext cx="2897280" cy="1060200"/>
            <a:chOff x="4809960" y="4087800"/>
            <a:chExt cx="2897280" cy="1060200"/>
          </a:xfrm>
        </p:grpSpPr>
        <p:grpSp>
          <p:nvGrpSpPr>
            <p:cNvPr id="1299" name="组合 32"/>
            <p:cNvGrpSpPr/>
            <p:nvPr/>
          </p:nvGrpSpPr>
          <p:grpSpPr>
            <a:xfrm>
              <a:off x="6518160" y="4209120"/>
              <a:ext cx="1189080" cy="820440"/>
              <a:chOff x="6518160" y="4209120"/>
              <a:chExt cx="1189080" cy="820440"/>
            </a:xfrm>
          </p:grpSpPr>
          <p:sp>
            <p:nvSpPr>
              <p:cNvPr id="1300" name="Text Box 54"/>
              <p:cNvSpPr/>
              <p:nvPr/>
            </p:nvSpPr>
            <p:spPr>
              <a:xfrm>
                <a:off x="6518160" y="4209120"/>
                <a:ext cx="11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Text Box 55"/>
              <p:cNvSpPr/>
              <p:nvPr/>
            </p:nvSpPr>
            <p:spPr>
              <a:xfrm>
                <a:off x="6518160" y="4661280"/>
                <a:ext cx="11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宋体"/>
                  </a:rPr>
                  <a:t>(  )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02" name=""/>
              <p:cNvGrpSpPr/>
              <p:nvPr/>
            </p:nvGrpSpPr>
            <p:grpSpPr>
              <a:xfrm>
                <a:off x="6847560" y="4676040"/>
                <a:ext cx="527400" cy="360"/>
                <a:chOff x="6847560" y="4676040"/>
                <a:chExt cx="527400" cy="360"/>
              </a:xfrm>
            </p:grpSpPr>
            <p:sp>
              <p:nvSpPr>
                <p:cNvPr id="1303" name="Line 56"/>
                <p:cNvSpPr/>
                <p:nvPr/>
              </p:nvSpPr>
              <p:spPr>
                <a:xfrm>
                  <a:off x="6847560" y="4676040"/>
                  <a:ext cx="527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4" name=""/>
                <p:cNvSpPr txBox="1"/>
                <p:nvPr/>
              </p:nvSpPr>
              <p:spPr>
                <a:xfrm>
                  <a:off x="6847560" y="4676040"/>
                  <a:ext cx="527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05" name="组合 16"/>
            <p:cNvGrpSpPr/>
            <p:nvPr/>
          </p:nvGrpSpPr>
          <p:grpSpPr>
            <a:xfrm>
              <a:off x="4809960" y="4147920"/>
              <a:ext cx="1190160" cy="1000080"/>
              <a:chOff x="4809960" y="4147920"/>
              <a:chExt cx="1190160" cy="1000080"/>
            </a:xfrm>
          </p:grpSpPr>
          <p:grpSp>
            <p:nvGrpSpPr>
              <p:cNvPr id="1306" name="组合 32"/>
              <p:cNvGrpSpPr/>
              <p:nvPr/>
            </p:nvGrpSpPr>
            <p:grpSpPr>
              <a:xfrm>
                <a:off x="4809960" y="4208760"/>
                <a:ext cx="1190160" cy="820080"/>
                <a:chOff x="4809960" y="4208760"/>
                <a:chExt cx="1190160" cy="820080"/>
              </a:xfrm>
            </p:grpSpPr>
            <p:sp>
              <p:nvSpPr>
                <p:cNvPr id="1307" name="Text Box 54"/>
                <p:cNvSpPr/>
                <p:nvPr/>
              </p:nvSpPr>
              <p:spPr>
                <a:xfrm>
                  <a:off x="4809960" y="4208760"/>
                  <a:ext cx="1190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(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8" name="Text Box 55"/>
                <p:cNvSpPr/>
                <p:nvPr/>
              </p:nvSpPr>
              <p:spPr>
                <a:xfrm>
                  <a:off x="4809960" y="4660560"/>
                  <a:ext cx="1190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(  )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309" name=""/>
                <p:cNvGrpSpPr/>
                <p:nvPr/>
              </p:nvGrpSpPr>
              <p:grpSpPr>
                <a:xfrm>
                  <a:off x="5139360" y="4675320"/>
                  <a:ext cx="528120" cy="360"/>
                  <a:chOff x="5139360" y="4675320"/>
                  <a:chExt cx="528120" cy="360"/>
                </a:xfrm>
              </p:grpSpPr>
              <p:sp>
                <p:nvSpPr>
                  <p:cNvPr id="1310" name="Line 56"/>
                  <p:cNvSpPr/>
                  <p:nvPr/>
                </p:nvSpPr>
                <p:spPr>
                  <a:xfrm>
                    <a:off x="5139360" y="4675320"/>
                    <a:ext cx="528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11" name=""/>
                  <p:cNvSpPr txBox="1"/>
                  <p:nvPr/>
                </p:nvSpPr>
                <p:spPr>
                  <a:xfrm>
                    <a:off x="5139360" y="4675320"/>
                    <a:ext cx="5281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312" name="文本框 8"/>
              <p:cNvSpPr/>
              <p:nvPr/>
            </p:nvSpPr>
            <p:spPr>
              <a:xfrm>
                <a:off x="5221080" y="4147920"/>
                <a:ext cx="4582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文本框 9"/>
              <p:cNvSpPr/>
              <p:nvPr/>
            </p:nvSpPr>
            <p:spPr>
              <a:xfrm>
                <a:off x="5175000" y="4660920"/>
                <a:ext cx="628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4" name="组合 17"/>
            <p:cNvGrpSpPr/>
            <p:nvPr/>
          </p:nvGrpSpPr>
          <p:grpSpPr>
            <a:xfrm>
              <a:off x="6847920" y="4087800"/>
              <a:ext cx="628920" cy="1034640"/>
              <a:chOff x="6847920" y="4087800"/>
              <a:chExt cx="628920" cy="1034640"/>
            </a:xfrm>
          </p:grpSpPr>
          <p:sp>
            <p:nvSpPr>
              <p:cNvPr id="1315" name="文本框 10"/>
              <p:cNvSpPr/>
              <p:nvPr/>
            </p:nvSpPr>
            <p:spPr>
              <a:xfrm>
                <a:off x="6847920" y="4635720"/>
                <a:ext cx="628920" cy="48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文本框 11"/>
              <p:cNvSpPr/>
              <p:nvPr/>
            </p:nvSpPr>
            <p:spPr>
              <a:xfrm>
                <a:off x="6977160" y="4087800"/>
                <a:ext cx="4579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7" name="组合 19"/>
            <p:cNvGrpSpPr/>
            <p:nvPr/>
          </p:nvGrpSpPr>
          <p:grpSpPr>
            <a:xfrm>
              <a:off x="6064560" y="4281480"/>
              <a:ext cx="431280" cy="642600"/>
              <a:chOff x="6064560" y="4281480"/>
              <a:chExt cx="431280" cy="642600"/>
            </a:xfrm>
          </p:grpSpPr>
          <p:sp>
            <p:nvSpPr>
              <p:cNvPr id="1318" name="椭圆 140"/>
              <p:cNvSpPr/>
              <p:nvPr/>
            </p:nvSpPr>
            <p:spPr>
              <a:xfrm>
                <a:off x="6064560" y="4464360"/>
                <a:ext cx="431280" cy="4208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文本框 13"/>
              <p:cNvSpPr/>
              <p:nvPr/>
            </p:nvSpPr>
            <p:spPr>
              <a:xfrm>
                <a:off x="6162480" y="42814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Calibri"/>
                    <a:ea typeface="宋体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组合 2"/>
          <p:cNvGrpSpPr/>
          <p:nvPr/>
        </p:nvGrpSpPr>
        <p:grpSpPr>
          <a:xfrm>
            <a:off x="-31680" y="101520"/>
            <a:ext cx="3244680" cy="525600"/>
            <a:chOff x="-31680" y="101520"/>
            <a:chExt cx="3244680" cy="525600"/>
          </a:xfrm>
        </p:grpSpPr>
        <p:pic>
          <p:nvPicPr>
            <p:cNvPr id="132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1880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22" name="组合 4"/>
            <p:cNvGrpSpPr/>
            <p:nvPr/>
          </p:nvGrpSpPr>
          <p:grpSpPr>
            <a:xfrm>
              <a:off x="-31680" y="196560"/>
              <a:ext cx="429840" cy="273600"/>
              <a:chOff x="-31680" y="196560"/>
              <a:chExt cx="429840" cy="273600"/>
            </a:xfrm>
          </p:grpSpPr>
          <p:sp>
            <p:nvSpPr>
              <p:cNvPr id="1323" name="椭圆 1"/>
              <p:cNvSpPr/>
              <p:nvPr/>
            </p:nvSpPr>
            <p:spPr>
              <a:xfrm rot="16200000">
                <a:off x="21096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24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648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5" name="椭圆 29"/>
              <p:cNvSpPr/>
              <p:nvPr/>
            </p:nvSpPr>
            <p:spPr>
              <a:xfrm rot="16200000">
                <a:off x="21096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2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648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3168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168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3168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3168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31" name="文本框 2"/>
          <p:cNvSpPr/>
          <p:nvPr/>
        </p:nvSpPr>
        <p:spPr>
          <a:xfrm>
            <a:off x="2724120" y="1459080"/>
            <a:ext cx="3140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认识几分之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文本框 3"/>
          <p:cNvSpPr/>
          <p:nvPr/>
        </p:nvSpPr>
        <p:spPr>
          <a:xfrm>
            <a:off x="619200" y="2127240"/>
            <a:ext cx="75661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几分之一用分数表示时，必须是平均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33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5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336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37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3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44" name="文本框 8"/>
          <p:cNvSpPr/>
          <p:nvPr/>
        </p:nvSpPr>
        <p:spPr>
          <a:xfrm>
            <a:off x="293760" y="933480"/>
            <a:ext cx="25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填一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文本框 13"/>
          <p:cNvSpPr/>
          <p:nvPr/>
        </p:nvSpPr>
        <p:spPr>
          <a:xfrm>
            <a:off x="573120" y="175896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6" name="Picture 137" descr=""/>
          <p:cNvPicPr/>
          <p:nvPr/>
        </p:nvPicPr>
        <p:blipFill>
          <a:blip r:embed="rId8"/>
          <a:stretch/>
        </p:blipFill>
        <p:spPr>
          <a:xfrm>
            <a:off x="1838160" y="1660680"/>
            <a:ext cx="249480" cy="64116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138" descr=""/>
          <p:cNvPicPr/>
          <p:nvPr/>
        </p:nvPicPr>
        <p:blipFill>
          <a:blip r:embed="rId9"/>
          <a:stretch/>
        </p:blipFill>
        <p:spPr>
          <a:xfrm>
            <a:off x="2209680" y="1663560"/>
            <a:ext cx="230400" cy="64800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139" descr=""/>
          <p:cNvPicPr/>
          <p:nvPr/>
        </p:nvPicPr>
        <p:blipFill>
          <a:blip r:embed="rId10"/>
          <a:stretch/>
        </p:blipFill>
        <p:spPr>
          <a:xfrm>
            <a:off x="2481120" y="1663560"/>
            <a:ext cx="225720" cy="638280"/>
          </a:xfrm>
          <a:prstGeom prst="rect">
            <a:avLst/>
          </a:prstGeom>
          <a:ln w="0">
            <a:noFill/>
          </a:ln>
        </p:spPr>
      </p:pic>
      <p:sp>
        <p:nvSpPr>
          <p:cNvPr id="1349" name="文本框 16"/>
          <p:cNvSpPr/>
          <p:nvPr/>
        </p:nvSpPr>
        <p:spPr>
          <a:xfrm>
            <a:off x="2835360" y="18446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样的数，都是（　　　）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文本框 17"/>
          <p:cNvSpPr/>
          <p:nvPr/>
        </p:nvSpPr>
        <p:spPr>
          <a:xfrm>
            <a:off x="573120" y="280656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4920" indent="-30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米长的绳子平均分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份，每份是它的（　　　），也就是（　　　）分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文本框 20"/>
          <p:cNvSpPr/>
          <p:nvPr/>
        </p:nvSpPr>
        <p:spPr>
          <a:xfrm>
            <a:off x="725400" y="432900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2" name="Picture 140" descr=""/>
          <p:cNvPicPr/>
          <p:nvPr/>
        </p:nvPicPr>
        <p:blipFill>
          <a:blip r:embed="rId11"/>
          <a:stretch/>
        </p:blipFill>
        <p:spPr>
          <a:xfrm>
            <a:off x="2209680" y="4208400"/>
            <a:ext cx="271440" cy="698400"/>
          </a:xfrm>
          <a:prstGeom prst="rect">
            <a:avLst/>
          </a:prstGeom>
          <a:ln w="0">
            <a:noFill/>
          </a:ln>
        </p:spPr>
      </p:pic>
      <p:sp>
        <p:nvSpPr>
          <p:cNvPr id="1353" name="文本框 22"/>
          <p:cNvSpPr/>
          <p:nvPr/>
        </p:nvSpPr>
        <p:spPr>
          <a:xfrm>
            <a:off x="2481120" y="4329000"/>
            <a:ext cx="60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分子是（　　　），分母是（　　　）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文本框 23"/>
          <p:cNvSpPr/>
          <p:nvPr/>
        </p:nvSpPr>
        <p:spPr>
          <a:xfrm>
            <a:off x="905040" y="4786200"/>
            <a:ext cx="39002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横线叫做（　　　）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文本框 2"/>
          <p:cNvSpPr/>
          <p:nvPr/>
        </p:nvSpPr>
        <p:spPr>
          <a:xfrm>
            <a:off x="6153120" y="1555920"/>
            <a:ext cx="12621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6" name="组合 32"/>
          <p:cNvGrpSpPr/>
          <p:nvPr/>
        </p:nvGrpSpPr>
        <p:grpSpPr>
          <a:xfrm>
            <a:off x="7415280" y="2638440"/>
            <a:ext cx="623880" cy="820800"/>
            <a:chOff x="7415280" y="2638440"/>
            <a:chExt cx="623880" cy="820800"/>
          </a:xfrm>
        </p:grpSpPr>
        <p:sp>
          <p:nvSpPr>
            <p:cNvPr id="1357" name="Text Box 54"/>
            <p:cNvSpPr/>
            <p:nvPr/>
          </p:nvSpPr>
          <p:spPr>
            <a:xfrm>
              <a:off x="7415280" y="26384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Text Box 55"/>
            <p:cNvSpPr/>
            <p:nvPr/>
          </p:nvSpPr>
          <p:spPr>
            <a:xfrm>
              <a:off x="7415280" y="30909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9" name=""/>
            <p:cNvGrpSpPr/>
            <p:nvPr/>
          </p:nvGrpSpPr>
          <p:grpSpPr>
            <a:xfrm>
              <a:off x="7588080" y="3105360"/>
              <a:ext cx="276840" cy="360"/>
              <a:chOff x="7588080" y="3105360"/>
              <a:chExt cx="276840" cy="360"/>
            </a:xfrm>
          </p:grpSpPr>
          <p:sp>
            <p:nvSpPr>
              <p:cNvPr id="1360" name="Line 56"/>
              <p:cNvSpPr/>
              <p:nvPr/>
            </p:nvSpPr>
            <p:spPr>
              <a:xfrm>
                <a:off x="7588080" y="310536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"/>
              <p:cNvSpPr txBox="1"/>
              <p:nvPr/>
            </p:nvSpPr>
            <p:spPr>
              <a:xfrm>
                <a:off x="7588080" y="310536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62" name="文本框 4"/>
          <p:cNvSpPr/>
          <p:nvPr/>
        </p:nvSpPr>
        <p:spPr>
          <a:xfrm>
            <a:off x="2538360" y="3040200"/>
            <a:ext cx="754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文本框 6"/>
          <p:cNvSpPr/>
          <p:nvPr/>
        </p:nvSpPr>
        <p:spPr>
          <a:xfrm>
            <a:off x="4410000" y="4197240"/>
            <a:ext cx="7542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文本框 8"/>
          <p:cNvSpPr/>
          <p:nvPr/>
        </p:nvSpPr>
        <p:spPr>
          <a:xfrm>
            <a:off x="7162920" y="4192560"/>
            <a:ext cx="7524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文本框 9"/>
          <p:cNvSpPr/>
          <p:nvPr/>
        </p:nvSpPr>
        <p:spPr>
          <a:xfrm>
            <a:off x="2525760" y="4835520"/>
            <a:ext cx="11462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数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7:24:09Z</dcterms:created>
  <dc:creator/>
  <dc:description/>
  <dc:language>en-US</dc:language>
  <cp:lastModifiedBy>万润仪器贸易公司</cp:lastModifiedBy>
  <dcterms:modified xsi:type="dcterms:W3CDTF">2020-08-21T01:31:33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